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F64-B844-49D8-A7D5-D4EC7F74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F52-13EE-4AE7-927E-8B538D8B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308-3DC0-4B29-98F6-BC7D09F8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311-0EF6-4581-9388-221DECF6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DB4-69CB-43D4-A69E-4BEC408E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582-56E2-4E0F-A44E-3FD61739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C4B-8AE3-4B06-B1C0-5F0A1EC6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EE3-66F2-47A6-B146-BF756E1A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078-3A33-4880-8AF3-20488F91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79F-E544-4B5D-A6E7-9644EEAA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53D-935E-4778-9B26-7738D5C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EA5-BBD7-4D5A-82E7-315A7B80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7FE6-94C9-42C8-97E1-0B7E0A218CCA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si.economia.gob.mx/reporteAnual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5640" y="1519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 a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63560"/>
            <a:ext cx="8381880" cy="4356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0120" y="11430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06668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Ingresar clave RFC de su em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Ingresar clave RUPA o CAES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1523880"/>
            <a:ext cx="16765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27160" y="53280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esi.economia.gob.mx/reporteAnual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93400" cy="358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5715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cionar Actividad 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os 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105520"/>
            <a:ext cx="458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47920"/>
            <a:ext cx="647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será necesario capturar los números de programa IMMEX, ALTEX o ECEX, ni el periodo de re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153280" y="4495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905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1905120"/>
            <a:ext cx="17524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54380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380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- Balanza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8380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enar Campos 1) Ventas Totales y 2) Total de Ex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123720" y="1066680"/>
            <a:ext cx="3049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038120" y="1066680"/>
            <a:ext cx="16765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029200"/>
            <a:ext cx="8077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: Total de Ventas es el valor que determina el Dpto de Finanzas en sus estados financiero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otal de Exportaciones se refiere al Valor Agregado que viene asentado en los pedimentos con clave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602480" cy="3238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76720" y="380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- Personal Ocup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105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ar el numero de empleados administrativo y obreros por periodos ind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76520" y="3352320"/>
            <a:ext cx="24382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04200" cy="319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66880" y="533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- Relación de Bienes Produ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95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empresas IMMEX con PROSEC no requieren llenar esta sección, únicamente aquellas con programa PROSEC que no son IM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75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ar los datos asentados y de estar correctos seleccionar el botón “Registrar Reporte” el cual generara el acuse de recibo de la Secretaria de Ec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obtenido el acuse de recibo usted ha cumplido con la presentación de su reporte anual IMMEX, PROSEC, ALTEX y ECEX de forma simultanea (Los que apliquen para cada empr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16292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08:09Z</dcterms:created>
  <dc:creator>Image v8.05P</dc:creator>
  <dc:description/>
  <dc:language>en-US</dc:language>
  <cp:lastModifiedBy>adolfo_rivera</cp:lastModifiedBy>
  <dcterms:modified xsi:type="dcterms:W3CDTF">2010-05-12T22:46:22Z</dcterms:modified>
  <cp:revision>7</cp:revision>
  <dc:subject/>
  <dc:title>Slide 1</dc:title>
</cp:coreProperties>
</file>