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DBD-9305-4497-889D-1C8E5D13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F63-26F1-4778-AEFB-E4CB139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73F-546D-48ED-9924-C21139F0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5D7-2454-4024-BD8A-345C69D8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C1EF-A20E-45C4-B72D-47F94836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A0F3-73F5-46B1-861D-B16DD1B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0192-E87F-46C8-AC47-85E2E396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40AE-5EB4-4029-AC84-5536122A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D422-DBDB-4E57-A472-A1D12AB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5071-6B7B-4620-A6C8-056379F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B99-2F9C-46A0-BB5F-B86782B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DDC-4097-44EC-930F-4568EA5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FD25-EBB7-4D53-8FD9-646F298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89B1-7622-4546-9829-A31B1A8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F922-6BAF-4649-A81B-C27022D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1F0-9F50-46CB-A967-58893864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4DCB-E596-44AB-B5FF-EE2C9C99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E54-959C-4091-B187-1CADE7B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F82-AA15-48B5-9E92-F718CF48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7BE-C308-4C84-975C-AB2CEFE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EB8-2386-456F-946D-E91E21D4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A88-F266-46F9-8811-C7B0750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608-D362-4D19-A2EC-F97F44E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273-65D8-4F65-BD9E-80802B8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CCE-377B-46F9-AC2E-12570312A6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9360" y="609588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685800"/>
            <a:ext cx="541008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-14400" y="380880"/>
            <a:ext cx="6262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rcRect l="14709" t="32548" r="19588" b="21569"/>
          <a:stretch/>
        </p:blipFill>
        <p:spPr>
          <a:xfrm>
            <a:off x="5943600" y="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491-04A3-44ED-83F4-2A9CBAE44B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hyperlink" Target="mailto:Robert.Begian@chemtura.com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28600" y="2019240"/>
            <a:ext cx="86868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omité de Medio Ambiente, Salud y Seguridad 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0" y="6186600"/>
            <a:ext cx="271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de Enero del 201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033200"/>
            <a:ext cx="2449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14709" t="32548" r="19588" b="21569"/>
          <a:stretch/>
        </p:blipFill>
        <p:spPr>
          <a:xfrm>
            <a:off x="5943600" y="0"/>
            <a:ext cx="32004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7200" y="1828800"/>
          <a:ext cx="8153280" cy="3827520"/>
        </p:xfrm>
        <a:graphic>
          <a:graphicData uri="http://schemas.openxmlformats.org/drawingml/2006/table">
            <a:tbl>
              <a:tblPr/>
              <a:tblGrid>
                <a:gridCol w="4114800"/>
                <a:gridCol w="2438280"/>
                <a:gridCol w="16002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PONS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gistro de Asistencia</a:t>
                      </a:r>
                      <a:r>
                        <a:rPr b="0" i="1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:2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7:3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O AMBIENTE, SALUD Y SEGUR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troalimentac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 de Staf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obert Beg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:3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7:35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entarios General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:35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8:0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alud: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ST9 Contenido y alc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r. Israel Becer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IMS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:00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8:2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guridad: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M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ulos elect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icos del PASST y          PROCADIS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ic. Ivan Kari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ST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:20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8:4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alud: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Certificac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n en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CP y Primeros Auxili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uricio de Alejandro (All Valley CPR &amp; First Ai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:40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9:0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Desayun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:00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9:3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9200" y="914400"/>
            <a:ext cx="41734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AL 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HS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7"/>
          <p:cNvGrpSpPr/>
          <p:nvPr/>
        </p:nvGrpSpPr>
        <p:grpSpPr>
          <a:xfrm>
            <a:off x="420840" y="1371600"/>
            <a:ext cx="8797320" cy="5252760"/>
            <a:chOff x="420840" y="1371600"/>
            <a:chExt cx="8797320" cy="5252760"/>
          </a:xfrm>
        </p:grpSpPr>
        <p:grpSp>
          <p:nvGrpSpPr>
            <p:cNvPr id="93" name="Group 104"/>
            <p:cNvGrpSpPr/>
            <p:nvPr/>
          </p:nvGrpSpPr>
          <p:grpSpPr>
            <a:xfrm>
              <a:off x="784440" y="1371600"/>
              <a:ext cx="8433720" cy="5252760"/>
              <a:chOff x="784440" y="1371600"/>
              <a:chExt cx="8433720" cy="5252760"/>
            </a:xfrm>
          </p:grpSpPr>
          <p:grpSp>
            <p:nvGrpSpPr>
              <p:cNvPr id="94" name="Group 103"/>
              <p:cNvGrpSpPr/>
              <p:nvPr/>
            </p:nvGrpSpPr>
            <p:grpSpPr>
              <a:xfrm>
                <a:off x="784440" y="1371600"/>
                <a:ext cx="7680600" cy="4264200"/>
                <a:chOff x="784440" y="1371600"/>
                <a:chExt cx="7680600" cy="4264200"/>
              </a:xfrm>
            </p:grpSpPr>
            <p:sp>
              <p:nvSpPr>
                <p:cNvPr id="95" name="AutoShape 9"/>
                <p:cNvSpPr/>
                <p:nvPr/>
              </p:nvSpPr>
              <p:spPr>
                <a:xfrm>
                  <a:off x="784440" y="1545480"/>
                  <a:ext cx="7506720" cy="37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Line 10"/>
                <p:cNvSpPr/>
                <p:nvPr/>
              </p:nvSpPr>
              <p:spPr>
                <a:xfrm>
                  <a:off x="4537800" y="2253240"/>
                  <a:ext cx="0" cy="2412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1"/>
                <p:cNvSpPr/>
                <p:nvPr/>
              </p:nvSpPr>
              <p:spPr>
                <a:xfrm flipV="1">
                  <a:off x="4537800" y="3372480"/>
                  <a:ext cx="0" cy="2775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2"/>
                <p:cNvSpPr/>
                <p:nvPr/>
              </p:nvSpPr>
              <p:spPr>
                <a:xfrm>
                  <a:off x="4537800" y="3623040"/>
                  <a:ext cx="0" cy="4680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15"/>
                <p:cNvSpPr/>
                <p:nvPr/>
              </p:nvSpPr>
              <p:spPr>
                <a:xfrm>
                  <a:off x="3219480" y="33548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16"/>
                <p:cNvSpPr/>
                <p:nvPr/>
              </p:nvSpPr>
              <p:spPr>
                <a:xfrm>
                  <a:off x="6259320" y="3906360"/>
                  <a:ext cx="941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External Support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17"/>
                <p:cNvSpPr/>
                <p:nvPr/>
              </p:nvSpPr>
              <p:spPr>
                <a:xfrm>
                  <a:off x="3246120" y="3750480"/>
                  <a:ext cx="180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9"/>
                <p:cNvSpPr/>
                <p:nvPr/>
              </p:nvSpPr>
              <p:spPr>
                <a:xfrm>
                  <a:off x="4537800" y="4086000"/>
                  <a:ext cx="0" cy="462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21"/>
                <p:cNvSpPr/>
                <p:nvPr/>
              </p:nvSpPr>
              <p:spPr>
                <a:xfrm>
                  <a:off x="4537800" y="4113360"/>
                  <a:ext cx="0" cy="121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26"/>
                <p:cNvSpPr/>
                <p:nvPr/>
              </p:nvSpPr>
              <p:spPr>
                <a:xfrm>
                  <a:off x="1441440" y="5082480"/>
                  <a:ext cx="1139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ector Gonzalez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27"/>
                <p:cNvSpPr/>
                <p:nvPr/>
              </p:nvSpPr>
              <p:spPr>
                <a:xfrm>
                  <a:off x="1492920" y="5278320"/>
                  <a:ext cx="1009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VP Environmental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28"/>
                <p:cNvSpPr/>
                <p:nvPr/>
              </p:nvSpPr>
              <p:spPr>
                <a:xfrm>
                  <a:off x="1490040" y="5483160"/>
                  <a:ext cx="943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Dulces Famoso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1"/>
                <p:cNvSpPr/>
                <p:nvPr/>
              </p:nvSpPr>
              <p:spPr>
                <a:xfrm>
                  <a:off x="4384440" y="5006160"/>
                  <a:ext cx="140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ncisco Cervant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32"/>
                <p:cNvSpPr/>
                <p:nvPr/>
              </p:nvSpPr>
              <p:spPr>
                <a:xfrm>
                  <a:off x="4734000" y="523476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VP Safety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33"/>
                <p:cNvSpPr/>
                <p:nvPr/>
              </p:nvSpPr>
              <p:spPr>
                <a:xfrm>
                  <a:off x="4394520" y="5461920"/>
                  <a:ext cx="11102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ldmex Industrie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7309080" y="5006160"/>
                  <a:ext cx="1155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r. Pablo Moran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37"/>
                <p:cNvSpPr/>
                <p:nvPr/>
              </p:nvSpPr>
              <p:spPr>
                <a:xfrm>
                  <a:off x="7622280" y="5234760"/>
                  <a:ext cx="56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VP Health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38"/>
                <p:cNvSpPr/>
                <p:nvPr/>
              </p:nvSpPr>
              <p:spPr>
                <a:xfrm>
                  <a:off x="7518240" y="5461920"/>
                  <a:ext cx="801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issell Mexico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41"/>
                <p:cNvSpPr/>
                <p:nvPr/>
              </p:nvSpPr>
              <p:spPr>
                <a:xfrm>
                  <a:off x="4525200" y="2541600"/>
                  <a:ext cx="1044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Jorge Carrasc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42"/>
                <p:cNvSpPr/>
                <p:nvPr/>
              </p:nvSpPr>
              <p:spPr>
                <a:xfrm>
                  <a:off x="4261320" y="2739600"/>
                  <a:ext cx="1445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President EHS committe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43"/>
                <p:cNvSpPr/>
                <p:nvPr/>
              </p:nvSpPr>
              <p:spPr>
                <a:xfrm>
                  <a:off x="4813920" y="2937600"/>
                  <a:ext cx="3452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fas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5"/>
                <p:cNvSpPr/>
                <p:nvPr/>
              </p:nvSpPr>
              <p:spPr>
                <a:xfrm>
                  <a:off x="3339000" y="1565640"/>
                  <a:ext cx="2397600" cy="68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46"/>
                <p:cNvSpPr/>
                <p:nvPr/>
              </p:nvSpPr>
              <p:spPr>
                <a:xfrm>
                  <a:off x="4330800" y="1458720"/>
                  <a:ext cx="979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</a:rPr>
                    <a:t>Robert Begia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47"/>
                <p:cNvSpPr/>
                <p:nvPr/>
              </p:nvSpPr>
              <p:spPr>
                <a:xfrm>
                  <a:off x="4268880" y="1685520"/>
                  <a:ext cx="13831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Director EHS Committe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8"/>
                <p:cNvSpPr/>
                <p:nvPr/>
              </p:nvSpPr>
              <p:spPr>
                <a:xfrm>
                  <a:off x="4533480" y="1901520"/>
                  <a:ext cx="555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Chemtur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49"/>
                <p:cNvSpPr/>
                <p:nvPr/>
              </p:nvSpPr>
              <p:spPr>
                <a:xfrm>
                  <a:off x="3392640" y="1371600"/>
                  <a:ext cx="2873520" cy="881640"/>
                </a:xfrm>
                <a:prstGeom prst="rect">
                  <a:avLst/>
                </a:prstGeom>
                <a:noFill/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50"/>
              <p:cNvSpPr/>
              <p:nvPr/>
            </p:nvSpPr>
            <p:spPr>
              <a:xfrm>
                <a:off x="7036560" y="6073560"/>
                <a:ext cx="218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resented by: Jorge Carras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pproved by: Robert Begain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Revision Date: December 01, 2011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66"/>
            <p:cNvGrpSpPr/>
            <p:nvPr/>
          </p:nvGrpSpPr>
          <p:grpSpPr>
            <a:xfrm>
              <a:off x="420840" y="1447920"/>
              <a:ext cx="8612280" cy="4547880"/>
              <a:chOff x="420840" y="1447920"/>
              <a:chExt cx="8612280" cy="4547880"/>
            </a:xfrm>
          </p:grpSpPr>
          <p:sp>
            <p:nvSpPr>
              <p:cNvPr id="123" name="Rectangle 101"/>
              <p:cNvSpPr/>
              <p:nvPr/>
            </p:nvSpPr>
            <p:spPr>
              <a:xfrm>
                <a:off x="2396520" y="3556080"/>
                <a:ext cx="1121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rasema Torruc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02"/>
              <p:cNvSpPr/>
              <p:nvPr/>
            </p:nvSpPr>
            <p:spPr>
              <a:xfrm>
                <a:off x="2484720" y="4013280"/>
                <a:ext cx="933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Hydro Aluminu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"/>
              <p:cNvGraphicFramePr/>
              <p:nvPr/>
            </p:nvGraphicFramePr>
            <p:xfrm>
              <a:off x="3484800" y="1447920"/>
              <a:ext cx="51768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84800" y="1447920"/>
                        <a:ext cx="51768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" name="Object 2"/>
              <p:cNvGraphicFramePr/>
              <p:nvPr/>
            </p:nvGraphicFramePr>
            <p:xfrm>
              <a:off x="3468960" y="2529000"/>
              <a:ext cx="533520" cy="646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8" name="Object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468960" y="2529000"/>
                        <a:ext cx="53352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" name="Rectangle 49"/>
              <p:cNvSpPr/>
              <p:nvPr/>
            </p:nvSpPr>
            <p:spPr>
              <a:xfrm>
                <a:off x="3376800" y="2413080"/>
                <a:ext cx="2836800" cy="88272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01"/>
              <p:cNvSpPr/>
              <p:nvPr/>
            </p:nvSpPr>
            <p:spPr>
              <a:xfrm>
                <a:off x="6035040" y="3600360"/>
                <a:ext cx="129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. Gerardo Garc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6"/>
              <p:cNvSpPr/>
              <p:nvPr/>
            </p:nvSpPr>
            <p:spPr>
              <a:xfrm>
                <a:off x="2707560" y="3784680"/>
                <a:ext cx="54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Secretar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8"/>
              <p:cNvSpPr/>
              <p:nvPr/>
            </p:nvSpPr>
            <p:spPr>
              <a:xfrm>
                <a:off x="420840" y="4838760"/>
                <a:ext cx="2797200" cy="92880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>
                <a:off x="3424320" y="4838760"/>
                <a:ext cx="2789280" cy="92880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6328080" y="4838760"/>
                <a:ext cx="2705040" cy="92880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1487880" y="3433680"/>
                <a:ext cx="2781000" cy="103824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18"/>
              <p:cNvSpPr/>
              <p:nvPr/>
            </p:nvSpPr>
            <p:spPr>
              <a:xfrm>
                <a:off x="4840560" y="3441960"/>
                <a:ext cx="2935440" cy="92844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00"/>
              <p:cNvSpPr/>
              <p:nvPr/>
            </p:nvSpPr>
            <p:spPr>
              <a:xfrm>
                <a:off x="4154760" y="1943280"/>
                <a:ext cx="23623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99ff66"/>
                    </a:solidFill>
                    <a:uFillTx/>
                    <a:latin typeface="Arial"/>
                    <a:hlinkClick r:id="rId5"/>
                  </a:rPr>
                  <a:t>Robert.Begian@chemtura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01"/>
              <p:cNvSpPr/>
              <p:nvPr/>
            </p:nvSpPr>
            <p:spPr>
              <a:xfrm>
                <a:off x="4154760" y="3022560"/>
                <a:ext cx="23623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ffffff"/>
                    </a:solidFill>
                    <a:latin typeface="Arial"/>
                  </a:rPr>
                  <a:t>jcarrasco@metalaire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02"/>
              <p:cNvSpPr/>
              <p:nvPr/>
            </p:nvSpPr>
            <p:spPr>
              <a:xfrm>
                <a:off x="1868760" y="4222800"/>
                <a:ext cx="23623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ffffff"/>
                    </a:solidFill>
                    <a:latin typeface="Arial"/>
                  </a:rPr>
                  <a:t>Irasema.Torruco@hydro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72"/>
              <p:cNvSpPr/>
              <p:nvPr/>
            </p:nvSpPr>
            <p:spPr>
              <a:xfrm>
                <a:off x="5621040" y="3983040"/>
                <a:ext cx="2171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r_gerardo_garcia@prodigy.net.mx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03"/>
              <p:cNvSpPr/>
              <p:nvPr/>
            </p:nvSpPr>
            <p:spPr>
              <a:xfrm>
                <a:off x="420840" y="5518080"/>
                <a:ext cx="28195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ffffff"/>
                    </a:solidFill>
                    <a:latin typeface="Arial"/>
                  </a:rPr>
                  <a:t>Hector.Gonzalez@farleysandsathers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3928680" y="5489640"/>
                <a:ext cx="212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francisco@weldmexindustries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7030080" y="5504040"/>
                <a:ext cx="1648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blo.Moran@bissell.co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44" name="Picture 98" descr=""/>
              <p:cNvPicPr/>
              <p:nvPr/>
            </p:nvPicPr>
            <p:blipFill>
              <a:blip r:embed="rId6"/>
              <a:srcRect l="20083" t="28341" r="60440" b="51980"/>
              <a:stretch/>
            </p:blipFill>
            <p:spPr>
              <a:xfrm>
                <a:off x="555840" y="4927680"/>
                <a:ext cx="47484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Straight Connector 11"/>
              <p:cNvSpPr/>
              <p:nvPr/>
            </p:nvSpPr>
            <p:spPr>
              <a:xfrm>
                <a:off x="1563840" y="4700520"/>
                <a:ext cx="6174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Straight Connector 15"/>
              <p:cNvSpPr/>
              <p:nvPr/>
            </p:nvSpPr>
            <p:spPr>
              <a:xfrm>
                <a:off x="1563840" y="470052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Straight Connector 17"/>
              <p:cNvSpPr/>
              <p:nvPr/>
            </p:nvSpPr>
            <p:spPr>
              <a:xfrm>
                <a:off x="4538880" y="44704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Straight Connector 19"/>
              <p:cNvSpPr/>
              <p:nvPr/>
            </p:nvSpPr>
            <p:spPr>
              <a:xfrm>
                <a:off x="4954680" y="470052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Straight Connector 21"/>
              <p:cNvSpPr/>
              <p:nvPr/>
            </p:nvSpPr>
            <p:spPr>
              <a:xfrm>
                <a:off x="7737840" y="470052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Straight Connector 63"/>
              <p:cNvSpPr/>
              <p:nvPr/>
            </p:nvSpPr>
            <p:spPr>
              <a:xfrm>
                <a:off x="4268880" y="3952800"/>
                <a:ext cx="5716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1" name="Picture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5080" y="3648240"/>
                <a:ext cx="57780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0" descr=""/>
              <p:cNvPicPr/>
              <p:nvPr/>
            </p:nvPicPr>
            <p:blipFill>
              <a:blip r:embed="rId8"/>
              <a:stretch/>
            </p:blipFill>
            <p:spPr>
              <a:xfrm>
                <a:off x="4986720" y="3586320"/>
                <a:ext cx="49680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62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8560" y="4927680"/>
                <a:ext cx="43200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40760" y="4927680"/>
                <a:ext cx="417600" cy="61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5" name="Picture 5" descr=""/>
          <p:cNvPicPr/>
          <p:nvPr/>
        </p:nvPicPr>
        <p:blipFill>
          <a:blip r:embed="rId11"/>
          <a:srcRect l="14709" t="32548" r="19588" b="21569"/>
          <a:stretch/>
        </p:blipFill>
        <p:spPr>
          <a:xfrm>
            <a:off x="5943600" y="0"/>
            <a:ext cx="3200400" cy="1676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04920" y="1143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905120"/>
            <a:ext cx="8305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iestos de SEDUMA.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n ser manejados por el generador o el transportis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do entra en vigor el formato de inscripción al sistema manifiest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UMA esta pidiendo que los desechos de las trampas de grasas de cafeteria sean enviados a un lugar autorizado por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4:27:50Z</dcterms:created>
  <dc:creator>ITR</dc:creator>
  <dc:description/>
  <dc:language>en-US</dc:language>
  <cp:lastModifiedBy>RAMAC</cp:lastModifiedBy>
  <dcterms:modified xsi:type="dcterms:W3CDTF">2012-01-12T13:52:50Z</dcterms:modified>
  <cp:revision>206</cp:revision>
  <dc:subject/>
  <dc:title>PRESENTACION ENERO EHS</dc:title>
</cp:coreProperties>
</file>