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EC2-92FA-4EDA-9592-172484AF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C36-C96A-47E7-A123-75475379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0C9-F04A-46BD-9AB0-28FFEC48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B57-C8EB-4D67-9046-5AF3206F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A78-5DF3-487C-B55F-14EE4A89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F90-4B2B-441C-8B3D-F9541324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7B8-AE6E-4B1F-B35B-40ECCF5F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5A2-5A57-4704-B003-AF2482F9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275-A6E9-4596-9DF4-C3416A21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5DD-16D9-4E86-B7A8-BA4E052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806-BEB3-4F77-B5CC-9D189F2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A7A-44F8-4B68-A3A6-7F94C1AC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16DE-5BB9-40CB-AA2A-F0EB5A6142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ocadist.stps.gob.mx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333333"/>
                </a:solidFill>
                <a:latin typeface="Arial"/>
              </a:rPr>
              <a:t>OFERTA DE CAPACITACIÓN A </a:t>
            </a:r>
            <a:br>
              <a:rPr sz="3200"/>
            </a:br>
            <a:r>
              <a:rPr b="1" lang="es-ES_tradnl" sz="3200" spc="-1" strike="noStrike">
                <a:solidFill>
                  <a:srgbClr val="333333"/>
                </a:solidFill>
                <a:latin typeface="Arial"/>
              </a:rPr>
              <a:t>DISTANC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13840" y="1428480"/>
            <a:ext cx="72867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Programa de Capacitación a Dist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"/>
              </a:rPr>
              <a:t>para Trabajadores </a:t>
            </a:r>
            <a:r>
              <a:rPr b="0" i="1" lang="es-ES_tradnl" sz="3200" spc="-1" strike="noStrike">
                <a:solidFill>
                  <a:srgbClr val="333333"/>
                </a:solidFill>
                <a:latin typeface="Arial"/>
              </a:rPr>
              <a:t>(PROCAD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500120" y="6105600"/>
            <a:ext cx="7643880" cy="752400"/>
          </a:xfrm>
          <a:prstGeom prst="rect">
            <a:avLst/>
          </a:prstGeom>
          <a:solidFill>
            <a:srgbClr val="d45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ordinación de Capacitación a 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1500120" y="5429160"/>
            <a:ext cx="7643880" cy="714600"/>
          </a:xfrm>
          <a:prstGeom prst="rect">
            <a:avLst/>
          </a:prstGeom>
          <a:solidFill>
            <a:srgbClr val="747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</a:t>
            </a:r>
            <a:r>
              <a:rPr b="0" lang="es-MX" sz="1800" spc="-1" strike="noStrike">
                <a:solidFill>
                  <a:srgbClr val="eaeaea"/>
                </a:solidFill>
                <a:latin typeface="Arial"/>
                <a:ea typeface="Arial"/>
              </a:rPr>
              <a:t>Dirección General de 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1" descr="Logotipo Norma mexicana"/>
          <p:cNvPicPr/>
          <p:nvPr/>
        </p:nvPicPr>
        <p:blipFill>
          <a:blip r:embed="rId1"/>
          <a:stretch/>
        </p:blipFill>
        <p:spPr>
          <a:xfrm>
            <a:off x="0" y="5330880"/>
            <a:ext cx="1500120" cy="152712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pic>
        <p:nvPicPr>
          <p:cNvPr id="236" name="Picture 11" descr="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23 Grupo"/>
          <p:cNvGrpSpPr/>
          <p:nvPr/>
        </p:nvGrpSpPr>
        <p:grpSpPr>
          <a:xfrm>
            <a:off x="357120" y="1010160"/>
            <a:ext cx="8297640" cy="5717520"/>
            <a:chOff x="357120" y="1010160"/>
            <a:chExt cx="8297640" cy="5717520"/>
          </a:xfrm>
        </p:grpSpPr>
        <p:grpSp>
          <p:nvGrpSpPr>
            <p:cNvPr id="238" name="73 Grupo"/>
            <p:cNvGrpSpPr/>
            <p:nvPr/>
          </p:nvGrpSpPr>
          <p:grpSpPr>
            <a:xfrm>
              <a:off x="592560" y="1010160"/>
              <a:ext cx="8062200" cy="5224320"/>
              <a:chOff x="592560" y="1010160"/>
              <a:chExt cx="8062200" cy="5224320"/>
            </a:xfrm>
          </p:grpSpPr>
          <p:sp>
            <p:nvSpPr>
              <p:cNvPr id="239" name="Oval 2"/>
              <p:cNvSpPr/>
              <p:nvPr/>
            </p:nvSpPr>
            <p:spPr>
              <a:xfrm>
                <a:off x="2754720" y="2135520"/>
                <a:ext cx="3966480" cy="381024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Group 4"/>
              <p:cNvGrpSpPr/>
              <p:nvPr/>
            </p:nvGrpSpPr>
            <p:grpSpPr>
              <a:xfrm>
                <a:off x="3727800" y="3088080"/>
                <a:ext cx="2020680" cy="2051640"/>
                <a:chOff x="3727800" y="3088080"/>
                <a:chExt cx="2020680" cy="2051640"/>
              </a:xfrm>
            </p:grpSpPr>
            <p:sp>
              <p:nvSpPr>
                <p:cNvPr id="241" name="Oval 5"/>
                <p:cNvSpPr/>
                <p:nvPr/>
              </p:nvSpPr>
              <p:spPr>
                <a:xfrm>
                  <a:off x="3727800" y="3088080"/>
                  <a:ext cx="2020680" cy="205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742e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6"/>
                <p:cNvSpPr/>
                <p:nvPr/>
              </p:nvSpPr>
              <p:spPr>
                <a:xfrm>
                  <a:off x="3958560" y="3121920"/>
                  <a:ext cx="1558800" cy="774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9"/>
              <p:cNvGrpSpPr/>
              <p:nvPr/>
            </p:nvGrpSpPr>
            <p:grpSpPr>
              <a:xfrm>
                <a:off x="5420880" y="1959840"/>
                <a:ext cx="673560" cy="633240"/>
                <a:chOff x="5420880" y="1959840"/>
                <a:chExt cx="673560" cy="633240"/>
              </a:xfrm>
            </p:grpSpPr>
            <p:sp>
              <p:nvSpPr>
                <p:cNvPr id="244" name="Oval 10"/>
                <p:cNvSpPr/>
                <p:nvPr/>
              </p:nvSpPr>
              <p:spPr>
                <a:xfrm>
                  <a:off x="5420880" y="1959840"/>
                  <a:ext cx="673560" cy="63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e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1"/>
                <p:cNvSpPr/>
                <p:nvPr/>
              </p:nvSpPr>
              <p:spPr>
                <a:xfrm>
                  <a:off x="5497920" y="1970280"/>
                  <a:ext cx="519480" cy="239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13"/>
              <p:cNvGrpSpPr/>
              <p:nvPr/>
            </p:nvGrpSpPr>
            <p:grpSpPr>
              <a:xfrm>
                <a:off x="3925080" y="5256360"/>
                <a:ext cx="338040" cy="373680"/>
                <a:chOff x="3925080" y="5256360"/>
                <a:chExt cx="338040" cy="373680"/>
              </a:xfrm>
            </p:grpSpPr>
            <p:sp>
              <p:nvSpPr>
                <p:cNvPr id="247" name="Oval 14"/>
                <p:cNvSpPr/>
                <p:nvPr/>
              </p:nvSpPr>
              <p:spPr>
                <a:xfrm rot="18226800">
                  <a:off x="3955680" y="5464440"/>
                  <a:ext cx="130320" cy="14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d1"/>
                    </a:gs>
                    <a:gs pos="100000">
                      <a:srgbClr val="19194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15"/>
                <p:cNvSpPr/>
                <p:nvPr/>
              </p:nvSpPr>
              <p:spPr>
                <a:xfrm rot="18226800">
                  <a:off x="4105080" y="5279760"/>
                  <a:ext cx="129960" cy="137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a3e0"/>
                    </a:gs>
                    <a:gs pos="100000">
                      <a:srgbClr val="19194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17"/>
              <p:cNvGrpSpPr/>
              <p:nvPr/>
            </p:nvGrpSpPr>
            <p:grpSpPr>
              <a:xfrm>
                <a:off x="3386160" y="5574960"/>
                <a:ext cx="673560" cy="659520"/>
                <a:chOff x="3386160" y="5574960"/>
                <a:chExt cx="673560" cy="659520"/>
              </a:xfrm>
            </p:grpSpPr>
            <p:sp>
              <p:nvSpPr>
                <p:cNvPr id="250" name="Oval 18"/>
                <p:cNvSpPr/>
                <p:nvPr/>
              </p:nvSpPr>
              <p:spPr>
                <a:xfrm>
                  <a:off x="3386160" y="5574960"/>
                  <a:ext cx="673560" cy="65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a3e0"/>
                    </a:gs>
                    <a:gs pos="100000">
                      <a:srgbClr val="19194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9"/>
                <p:cNvSpPr/>
                <p:nvPr/>
              </p:nvSpPr>
              <p:spPr>
                <a:xfrm>
                  <a:off x="3462840" y="5585760"/>
                  <a:ext cx="520920" cy="24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3a3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2" name="Group 22" descr=""/>
              <p:cNvPicPr/>
              <p:nvPr/>
            </p:nvPicPr>
            <p:blipFill>
              <a:blip r:embed="rId1"/>
              <a:stretch/>
            </p:blipFill>
            <p:spPr>
              <a:xfrm>
                <a:off x="6314400" y="2971800"/>
                <a:ext cx="912240" cy="912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3" name="Group 27"/>
              <p:cNvGrpSpPr/>
              <p:nvPr/>
            </p:nvGrpSpPr>
            <p:grpSpPr>
              <a:xfrm>
                <a:off x="5350680" y="5567400"/>
                <a:ext cx="642240" cy="598320"/>
                <a:chOff x="5350680" y="5567400"/>
                <a:chExt cx="642240" cy="598320"/>
              </a:xfrm>
            </p:grpSpPr>
            <p:sp>
              <p:nvSpPr>
                <p:cNvPr id="254" name="Oval 28"/>
                <p:cNvSpPr/>
                <p:nvPr/>
              </p:nvSpPr>
              <p:spPr>
                <a:xfrm>
                  <a:off x="5350680" y="5567400"/>
                  <a:ext cx="6422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74174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9"/>
                <p:cNvSpPr/>
                <p:nvPr/>
              </p:nvSpPr>
              <p:spPr>
                <a:xfrm>
                  <a:off x="5424120" y="5577120"/>
                  <a:ext cx="495360" cy="225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33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6" name="Group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6440" y="2746800"/>
                <a:ext cx="918360" cy="9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Oval 36"/>
              <p:cNvSpPr/>
              <p:nvPr/>
            </p:nvSpPr>
            <p:spPr>
              <a:xfrm rot="18226800">
                <a:off x="5379480" y="5430600"/>
                <a:ext cx="124920" cy="135360"/>
              </a:xfrm>
              <a:prstGeom prst="ellipse">
                <a:avLst/>
              </a:prstGeom>
              <a:gradFill rotWithShape="0">
                <a:gsLst>
                  <a:gs pos="0">
                    <a:srgbClr val="ff3399"/>
                  </a:gs>
                  <a:gs pos="100000">
                    <a:srgbClr val="aa22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37"/>
              <p:cNvSpPr/>
              <p:nvPr/>
            </p:nvSpPr>
            <p:spPr>
              <a:xfrm rot="18226800">
                <a:off x="5239080" y="5224320"/>
                <a:ext cx="124920" cy="135360"/>
              </a:xfrm>
              <a:prstGeom prst="ellipse">
                <a:avLst/>
              </a:prstGeom>
              <a:gradFill rotWithShape="0">
                <a:gsLst>
                  <a:gs pos="0">
                    <a:srgbClr val="ff3399"/>
                  </a:gs>
                  <a:gs pos="100000">
                    <a:srgbClr val="aa22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38"/>
              <p:cNvGrpSpPr/>
              <p:nvPr/>
            </p:nvGrpSpPr>
            <p:grpSpPr>
              <a:xfrm>
                <a:off x="3120840" y="3361680"/>
                <a:ext cx="427320" cy="310320"/>
                <a:chOff x="3120840" y="3361680"/>
                <a:chExt cx="427320" cy="310320"/>
              </a:xfrm>
            </p:grpSpPr>
            <p:sp>
              <p:nvSpPr>
                <p:cNvPr id="260" name="Oval 39"/>
                <p:cNvSpPr/>
                <p:nvPr/>
              </p:nvSpPr>
              <p:spPr>
                <a:xfrm rot="18226800">
                  <a:off x="3147120" y="3384360"/>
                  <a:ext cx="124920" cy="13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40"/>
                <p:cNvSpPr/>
                <p:nvPr/>
              </p:nvSpPr>
              <p:spPr>
                <a:xfrm rot="18226800">
                  <a:off x="3396240" y="3518280"/>
                  <a:ext cx="124920" cy="13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41"/>
              <p:cNvGrpSpPr/>
              <p:nvPr/>
            </p:nvGrpSpPr>
            <p:grpSpPr>
              <a:xfrm>
                <a:off x="5265000" y="2599560"/>
                <a:ext cx="340200" cy="424080"/>
                <a:chOff x="5265000" y="2599560"/>
                <a:chExt cx="340200" cy="424080"/>
              </a:xfrm>
            </p:grpSpPr>
            <p:sp>
              <p:nvSpPr>
                <p:cNvPr id="263" name="Oval 42"/>
                <p:cNvSpPr/>
                <p:nvPr/>
              </p:nvSpPr>
              <p:spPr>
                <a:xfrm rot="18717600">
                  <a:off x="5450400" y="2623320"/>
                  <a:ext cx="124920" cy="13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9a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43"/>
                <p:cNvSpPr/>
                <p:nvPr/>
              </p:nvSpPr>
              <p:spPr>
                <a:xfrm rot="18717600">
                  <a:off x="5294520" y="2864160"/>
                  <a:ext cx="124920" cy="13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92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Oval 44"/>
              <p:cNvSpPr/>
              <p:nvPr/>
            </p:nvSpPr>
            <p:spPr>
              <a:xfrm rot="18226800">
                <a:off x="6226200" y="3506760"/>
                <a:ext cx="124920" cy="135360"/>
              </a:xfrm>
              <a:prstGeom prst="ellipse">
                <a:avLst/>
              </a:prstGeom>
              <a:gradFill rotWithShape="0">
                <a:gsLst>
                  <a:gs pos="0">
                    <a:srgbClr val="ff9c7d"/>
                  </a:gs>
                  <a:gs pos="100000">
                    <a:srgbClr val="7a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45"/>
              <p:cNvSpPr/>
              <p:nvPr/>
            </p:nvSpPr>
            <p:spPr>
              <a:xfrm rot="18226800">
                <a:off x="5982840" y="3586320"/>
                <a:ext cx="124920" cy="135360"/>
              </a:xfrm>
              <a:prstGeom prst="ellipse">
                <a:avLst/>
              </a:prstGeom>
              <a:gradFill rotWithShape="0">
                <a:gsLst>
                  <a:gs pos="0">
                    <a:srgbClr val="ffa18b"/>
                  </a:gs>
                  <a:gs pos="100000">
                    <a:srgbClr val="68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20"/>
              <p:cNvSpPr/>
              <p:nvPr/>
            </p:nvSpPr>
            <p:spPr>
              <a:xfrm>
                <a:off x="592560" y="1010160"/>
                <a:ext cx="80622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Verdana"/>
                  </a:rPr>
                  <a:t>El PROCADIST cuenta con un catálogo de </a:t>
                </a:r>
                <a:r>
                  <a:rPr b="0" i="1" lang="es-ES" sz="1800" spc="-1" strike="noStrike">
                    <a:solidFill>
                      <a:srgbClr val="000000"/>
                    </a:solidFill>
                    <a:latin typeface="Verdana"/>
                  </a:rPr>
                  <a:t>46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Verdana"/>
                  </a:rPr>
                  <a:t>cursos en línea, organizados en 8 áreas de capacidad laboral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_s1050"/>
              <p:cNvSpPr/>
              <p:nvPr/>
            </p:nvSpPr>
            <p:spPr>
              <a:xfrm>
                <a:off x="2487960" y="1837800"/>
                <a:ext cx="9540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irectiv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_s1052"/>
              <p:cNvSpPr/>
              <p:nvPr/>
            </p:nvSpPr>
            <p:spPr>
              <a:xfrm>
                <a:off x="6122520" y="1938600"/>
                <a:ext cx="9540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Genera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_s1054"/>
              <p:cNvSpPr/>
              <p:nvPr/>
            </p:nvSpPr>
            <p:spPr>
              <a:xfrm>
                <a:off x="7104960" y="3243960"/>
                <a:ext cx="9540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écnic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_s1056"/>
              <p:cNvSpPr/>
              <p:nvPr/>
            </p:nvSpPr>
            <p:spPr>
              <a:xfrm>
                <a:off x="7266960" y="4824000"/>
                <a:ext cx="9540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Alfabetizaci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           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igital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_s1058"/>
              <p:cNvSpPr/>
              <p:nvPr/>
            </p:nvSpPr>
            <p:spPr>
              <a:xfrm>
                <a:off x="2491560" y="5822640"/>
                <a:ext cx="9118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Formaci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pa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la vid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_s1060"/>
              <p:cNvSpPr/>
              <p:nvPr/>
            </p:nvSpPr>
            <p:spPr>
              <a:xfrm>
                <a:off x="1421640" y="4723200"/>
                <a:ext cx="9540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Inspecci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Federal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el Trabaj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_s1062"/>
              <p:cNvSpPr/>
              <p:nvPr/>
            </p:nvSpPr>
            <p:spPr>
              <a:xfrm>
                <a:off x="1281240" y="2863080"/>
                <a:ext cx="9540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Seguridad y Salu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en el Trabaj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_s1035"/>
              <p:cNvSpPr/>
              <p:nvPr/>
            </p:nvSpPr>
            <p:spPr>
              <a:xfrm>
                <a:off x="6488280" y="5822640"/>
                <a:ext cx="9540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</a:rPr>
                  <a:t>Formación de Tu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Verdana"/>
                  </a:rPr>
                  <a:t>en Líne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22"/>
              <p:cNvGrpSpPr/>
              <p:nvPr/>
            </p:nvGrpSpPr>
            <p:grpSpPr>
              <a:xfrm>
                <a:off x="6364080" y="4605840"/>
                <a:ext cx="670320" cy="667080"/>
                <a:chOff x="6364080" y="4605840"/>
                <a:chExt cx="670320" cy="667080"/>
              </a:xfrm>
            </p:grpSpPr>
            <p:sp>
              <p:nvSpPr>
                <p:cNvPr id="277" name="Oval 23"/>
                <p:cNvSpPr/>
                <p:nvPr/>
              </p:nvSpPr>
              <p:spPr>
                <a:xfrm>
                  <a:off x="6364080" y="4605840"/>
                  <a:ext cx="670320" cy="66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96e3"/>
                    </a:gs>
                    <a:gs pos="100000">
                      <a:srgbClr val="2144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6440400" y="4616640"/>
                  <a:ext cx="517320" cy="251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a7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Oval 44"/>
              <p:cNvSpPr/>
              <p:nvPr/>
            </p:nvSpPr>
            <p:spPr>
              <a:xfrm rot="18226800">
                <a:off x="6184080" y="4674600"/>
                <a:ext cx="124920" cy="13536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5"/>
              <p:cNvSpPr/>
              <p:nvPr/>
            </p:nvSpPr>
            <p:spPr>
              <a:xfrm rot="18226800">
                <a:off x="5940720" y="4537440"/>
                <a:ext cx="124920" cy="13536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Group 13"/>
              <p:cNvGrpSpPr/>
              <p:nvPr/>
            </p:nvGrpSpPr>
            <p:grpSpPr>
              <a:xfrm>
                <a:off x="3136680" y="4503960"/>
                <a:ext cx="435240" cy="261360"/>
                <a:chOff x="3136680" y="4503960"/>
                <a:chExt cx="435240" cy="261360"/>
              </a:xfrm>
            </p:grpSpPr>
            <p:sp>
              <p:nvSpPr>
                <p:cNvPr id="282" name="Oval 14"/>
                <p:cNvSpPr/>
                <p:nvPr/>
              </p:nvSpPr>
              <p:spPr>
                <a:xfrm rot="19666800">
                  <a:off x="3162960" y="4606920"/>
                  <a:ext cx="124920" cy="13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228888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5"/>
                <p:cNvSpPr/>
                <p:nvPr/>
              </p:nvSpPr>
              <p:spPr>
                <a:xfrm rot="19666800">
                  <a:off x="3420360" y="4526640"/>
                  <a:ext cx="124920" cy="13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228888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Group 17"/>
              <p:cNvGrpSpPr/>
              <p:nvPr/>
            </p:nvGrpSpPr>
            <p:grpSpPr>
              <a:xfrm>
                <a:off x="2473920" y="4585680"/>
                <a:ext cx="673560" cy="659520"/>
                <a:chOff x="2473920" y="4585680"/>
                <a:chExt cx="673560" cy="659520"/>
              </a:xfrm>
            </p:grpSpPr>
            <p:sp>
              <p:nvSpPr>
                <p:cNvPr id="285" name="Oval 18"/>
                <p:cNvSpPr/>
                <p:nvPr/>
              </p:nvSpPr>
              <p:spPr>
                <a:xfrm>
                  <a:off x="2473920" y="4585680"/>
                  <a:ext cx="673560" cy="65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0c323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9"/>
                <p:cNvSpPr/>
                <p:nvPr/>
              </p:nvSpPr>
              <p:spPr>
                <a:xfrm>
                  <a:off x="2550960" y="4596480"/>
                  <a:ext cx="519480" cy="24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7" name="Group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263040" y="1851840"/>
                <a:ext cx="918360" cy="87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8" name="Group 41"/>
              <p:cNvGrpSpPr/>
              <p:nvPr/>
            </p:nvGrpSpPr>
            <p:grpSpPr>
              <a:xfrm>
                <a:off x="3953520" y="2598120"/>
                <a:ext cx="316080" cy="416880"/>
                <a:chOff x="3953520" y="2598120"/>
                <a:chExt cx="316080" cy="416880"/>
              </a:xfrm>
            </p:grpSpPr>
            <p:sp>
              <p:nvSpPr>
                <p:cNvPr id="289" name="Oval 42"/>
                <p:cNvSpPr/>
                <p:nvPr/>
              </p:nvSpPr>
              <p:spPr>
                <a:xfrm rot="14974200">
                  <a:off x="3973680" y="2614680"/>
                  <a:ext cx="127800" cy="13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aaaa44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43"/>
                <p:cNvSpPr/>
                <p:nvPr/>
              </p:nvSpPr>
              <p:spPr>
                <a:xfrm rot="14974200">
                  <a:off x="4120920" y="2865600"/>
                  <a:ext cx="127800" cy="13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aaaa44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1" name="103 Imagen" descr="logo_aula1.png"/>
              <p:cNvPicPr/>
              <p:nvPr/>
            </p:nvPicPr>
            <p:blipFill>
              <a:blip r:embed="rId4"/>
              <a:stretch/>
            </p:blipFill>
            <p:spPr>
              <a:xfrm>
                <a:off x="3860280" y="3761280"/>
                <a:ext cx="1794600" cy="78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104 Imagen" descr="admin-1.png"/>
              <p:cNvPicPr/>
              <p:nvPr/>
            </p:nvPicPr>
            <p:blipFill>
              <a:blip r:embed="rId5"/>
              <a:stretch/>
            </p:blipFill>
            <p:spPr>
              <a:xfrm>
                <a:off x="6543360" y="3211920"/>
                <a:ext cx="46764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106 Imagen" descr="trabajo1.png"/>
              <p:cNvPicPr/>
              <p:nvPr/>
            </p:nvPicPr>
            <p:blipFill>
              <a:blip r:embed="rId6"/>
              <a:stretch/>
            </p:blipFill>
            <p:spPr>
              <a:xfrm>
                <a:off x="2497320" y="2936880"/>
                <a:ext cx="467640" cy="48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108 Imagen" descr="inspector1.png"/>
              <p:cNvPicPr/>
              <p:nvPr/>
            </p:nvPicPr>
            <p:blipFill>
              <a:blip r:embed="rId7"/>
              <a:stretch/>
            </p:blipFill>
            <p:spPr>
              <a:xfrm>
                <a:off x="2544120" y="4686480"/>
                <a:ext cx="467640" cy="44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109 Imagen" descr="tutor1.png"/>
              <p:cNvPicPr/>
              <p:nvPr/>
            </p:nvPicPr>
            <p:blipFill>
              <a:blip r:embed="rId8"/>
              <a:stretch/>
            </p:blipFill>
            <p:spPr>
              <a:xfrm>
                <a:off x="5420880" y="5639400"/>
                <a:ext cx="467640" cy="45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110 Imagen" descr="director1.png"/>
              <p:cNvPicPr/>
              <p:nvPr/>
            </p:nvPicPr>
            <p:blipFill>
              <a:blip r:embed="rId9"/>
              <a:stretch/>
            </p:blipFill>
            <p:spPr>
              <a:xfrm>
                <a:off x="3526560" y="2085120"/>
                <a:ext cx="467640" cy="45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111 Imagen" descr="general1.png"/>
              <p:cNvPicPr/>
              <p:nvPr/>
            </p:nvPicPr>
            <p:blipFill>
              <a:blip r:embed="rId10"/>
              <a:stretch/>
            </p:blipFill>
            <p:spPr>
              <a:xfrm>
                <a:off x="5514480" y="2044080"/>
                <a:ext cx="467640" cy="44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112 Imagen" descr="formacion1.png"/>
              <p:cNvPicPr/>
              <p:nvPr/>
            </p:nvPicPr>
            <p:blipFill>
              <a:blip r:embed="rId11"/>
              <a:stretch/>
            </p:blipFill>
            <p:spPr>
              <a:xfrm>
                <a:off x="3493800" y="5694120"/>
                <a:ext cx="467640" cy="44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113 Imagen" descr="digital.png"/>
              <p:cNvPicPr/>
              <p:nvPr/>
            </p:nvPicPr>
            <p:blipFill>
              <a:blip r:embed="rId12"/>
              <a:stretch/>
            </p:blipFill>
            <p:spPr>
              <a:xfrm>
                <a:off x="6473520" y="4727880"/>
                <a:ext cx="467640" cy="47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0" name="89 CuadroTexto"/>
            <p:cNvSpPr/>
            <p:nvPr/>
          </p:nvSpPr>
          <p:spPr>
            <a:xfrm>
              <a:off x="1380960" y="6473880"/>
              <a:ext cx="66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s-MX" sz="1000" spc="-1" strike="noStrike">
                  <a:solidFill>
                    <a:srgbClr val="000000"/>
                  </a:solidFill>
                  <a:latin typeface="Verdana"/>
                </a:rPr>
                <a:t>Cursos que cuentan con reconocimiento para la acreditación de primaria y secundaria a través del INEA-CONEVy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26 Elipse"/>
            <p:cNvGrpSpPr/>
            <p:nvPr/>
          </p:nvGrpSpPr>
          <p:grpSpPr>
            <a:xfrm>
              <a:off x="357120" y="6435720"/>
              <a:ext cx="295920" cy="291960"/>
              <a:chOff x="357120" y="6435720"/>
              <a:chExt cx="295920" cy="291960"/>
            </a:xfrm>
          </p:grpSpPr>
          <p:pic>
            <p:nvPicPr>
              <p:cNvPr id="302" name="26 Elipse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7120" y="6435720"/>
                <a:ext cx="295920" cy="2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453600" y="6533280"/>
                <a:ext cx="99000" cy="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Rectangle 2"/>
          <p:cNvSpPr/>
          <p:nvPr/>
        </p:nvSpPr>
        <p:spPr>
          <a:xfrm>
            <a:off x="957240" y="142920"/>
            <a:ext cx="6012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53300"/>
                </a:solidFill>
                <a:latin typeface="Verdana"/>
              </a:rPr>
              <a:t>PROGRAMA DE CAPACITACIÓN A DISTANCIA PARA TRABAJADORES   (PROCAD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Object 6"/>
          <p:cNvGraphicFramePr/>
          <p:nvPr/>
        </p:nvGraphicFramePr>
        <p:xfrm>
          <a:off x="806400" y="1101600"/>
          <a:ext cx="7419960" cy="55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101600"/>
                    <a:ext cx="7419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2"/>
          <p:cNvSpPr/>
          <p:nvPr/>
        </p:nvSpPr>
        <p:spPr>
          <a:xfrm>
            <a:off x="957240" y="142920"/>
            <a:ext cx="6012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53300"/>
                </a:solidFill>
                <a:latin typeface="Verdana"/>
              </a:rPr>
              <a:t>PROGRAMA DE CAPACITACIÓN A DISTANCIA PARA TRABAJADORES   (PROCAD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5"/>
          <p:cNvGraphicFramePr/>
          <p:nvPr/>
        </p:nvGraphicFramePr>
        <p:xfrm>
          <a:off x="822240" y="1596960"/>
          <a:ext cx="7662960" cy="37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596960"/>
                    <a:ext cx="766296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2"/>
          <p:cNvSpPr/>
          <p:nvPr/>
        </p:nvSpPr>
        <p:spPr>
          <a:xfrm>
            <a:off x="957240" y="142920"/>
            <a:ext cx="6012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53300"/>
                </a:solidFill>
                <a:latin typeface="Verdana"/>
              </a:rPr>
              <a:t>PROGRAMA DE CAPACITACIÓN A DISTANCIA PARA TRABAJADORES   (PROCAD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9"/>
          <p:cNvGraphicFramePr/>
          <p:nvPr/>
        </p:nvGraphicFramePr>
        <p:xfrm>
          <a:off x="291960" y="1017720"/>
          <a:ext cx="8637840" cy="57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017720"/>
                    <a:ext cx="8637840" cy="57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2"/>
          <p:cNvSpPr/>
          <p:nvPr/>
        </p:nvSpPr>
        <p:spPr>
          <a:xfrm>
            <a:off x="957240" y="142920"/>
            <a:ext cx="6012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c53300"/>
                </a:solidFill>
                <a:latin typeface="Verdana"/>
              </a:rPr>
              <a:t>PROGRAMA DE CAPACITACIÓN A DISTANCIA PARA TRABAJADORES   (PROCAD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468360" y="1714680"/>
          <a:ext cx="8104320" cy="4160520"/>
        </p:xfrm>
        <a:graphic>
          <a:graphicData uri="http://schemas.openxmlformats.org/drawingml/2006/table">
            <a:tbl>
              <a:tblPr/>
              <a:tblGrid>
                <a:gridCol w="8104320"/>
              </a:tblGrid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er trabajador(a) en activo o pertenecer a un grupo en situación de    vulnerabilidad lab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nocimientos básicos de 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Saber navegar en Int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ener una </a:t>
                      </a:r>
                      <a:r>
                        <a:rPr b="0" i="1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irección personalizada de correo electrónico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. (En caso de correos institucionales de una misma área, deberán ser distintos para cada participan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lenar la Cédula de Inscripción que se encuentra en el Aula Vir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MS PGothic"/>
                          <a:hlinkClick r:id="rId1"/>
                        </a:rPr>
                        <a:t>http://procadist.stps.gob.m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8"/>
          <p:cNvSpPr/>
          <p:nvPr/>
        </p:nvSpPr>
        <p:spPr>
          <a:xfrm>
            <a:off x="426960" y="1143000"/>
            <a:ext cx="2435400" cy="371880"/>
          </a:xfrm>
          <a:prstGeom prst="rect">
            <a:avLst/>
          </a:prstGeom>
          <a:gradFill rotWithShape="0">
            <a:gsLst>
              <a:gs pos="0">
                <a:srgbClr val="ff9900">
                  <a:alpha val="90196"/>
                </a:srgbClr>
              </a:gs>
              <a:gs pos="100000">
                <a:srgbClr val="ffff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marL="324000" indent="-324000" algn="just">
              <a:lnSpc>
                <a:spcPct val="10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957240" y="142920"/>
            <a:ext cx="601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53300"/>
                </a:solidFill>
                <a:latin typeface="Verdana"/>
              </a:rPr>
              <a:t>PROGRAMA DE CAPACITACIÓN A DISTANCIA PARA TRABAJADORES   (PROCAD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image001"/>
          <p:cNvPicPr/>
          <p:nvPr/>
        </p:nvPicPr>
        <p:blipFill>
          <a:blip r:embed="rId1"/>
          <a:stretch/>
        </p:blipFill>
        <p:spPr>
          <a:xfrm>
            <a:off x="642960" y="428760"/>
            <a:ext cx="6572160" cy="2786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385740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C. CYNTHIA GARZA R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ULTOR-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lace.tamaulipas@stps.gob.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8 Y 19 MATAMOROS No. 237  P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LONIA CENTRO C.P. 8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CTORIA, TAMAULIP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0:55:50Z</dcterms:created>
  <dc:creator>Lic. Consuelo Davillad Vazquez</dc:creator>
  <dc:description/>
  <dc:language>en-US</dc:language>
  <cp:lastModifiedBy>RAMAC</cp:lastModifiedBy>
  <dcterms:modified xsi:type="dcterms:W3CDTF">2012-01-12T13:42:46Z</dcterms:modified>
  <cp:revision>142</cp:revision>
  <dc:subject>Eventos de difusión</dc:subject>
  <dc:title>Presentación general Oferta de la SI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ción General 2009">
    <vt:lpwstr>Alto</vt:lpwstr>
  </property>
</Properties>
</file>