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9.png" ContentType="image/png"/>
  <Override PartName="/ppt/media/image28.png" ContentType="image/png"/>
  <Override PartName="/ppt/media/image10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29.gif" ContentType="image/gif"/>
  <Override PartName="/ppt/media/image2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18.wmf" ContentType="image/x-wmf"/>
  <Override PartName="/ppt/media/image20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gif" ContentType="image/gif"/>
  <Override PartName="/ppt/media/image26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DFC1-9D38-471A-890B-CF3EF66E48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7155-0C82-467F-A0E4-5E8533C0857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45CA-A8E4-45DA-BFF6-3C055B77E2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FCFC-4270-4F1A-BF26-17BF58816A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C93E-0A66-42E1-91CB-9D9ACF8B6F5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90ED-BEAE-4B3A-A5E7-D4430351AB8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AF6A-0AFE-4B40-A507-34FF79E886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2AC4-455F-40A5-98C9-02D238B83A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355F-FE71-424E-BF44-DE0DA429A0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E6D-8417-4D29-9715-C5DB6C34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3DB-FEA7-4742-A261-6624E4ED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D28-E925-4D7D-A67A-D44D2D2E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31F-016F-418E-BF49-5C8C238C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CFC3-9230-474C-95A0-BE18F40D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8EDE-ACC4-42A2-9BA1-A00D1E9B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3850-F33A-4CB4-92EC-E8827EA6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3032-2A67-47BF-BDB8-936D3787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0246-C88C-4FB3-86FC-5FD90924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06AA-C4CA-45D2-9FB2-37C827FE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92B2-E49A-439C-AF7E-EB79CA24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45A-2103-4FD8-884C-D48BD8E2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2A46-4270-40B4-A9BA-F536689A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9418-7748-40E2-93F5-5432C84B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6F4F-DD7C-4F12-A671-011C9D8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F5B6-B677-426E-AC61-5E31DA6E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FCED-E342-45EF-8545-967E4688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C5822-4A0B-4059-969C-9DBA8284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C559-756F-459D-AFF8-963D664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50A43-FC98-4BEB-A945-35D9867E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4AB8-8B5A-4024-AA56-51F555D7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1CAAE-426A-43F7-A11F-8CBFE356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446-DAB5-4B18-9E9C-BCD0681B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92B3-A92B-476B-88F1-15FCF3CE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54A7-8943-4241-AB6B-40E390E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5154F-CFB6-402A-BF32-A25BC44B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F41D-D5EE-4284-9A7A-F1BB5BBC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5A2F-8973-4578-976A-C328895D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6D98-B1E4-4525-B9DD-0324899C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5D7F-995F-40C8-A6BF-D580E050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04E5-D154-49F1-9995-AD7EEE67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81C8-E202-46D9-B386-2AC35379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049E-01A5-431E-9918-48FE1A7E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C37-7B27-4BD2-9F14-932C1389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7252F-DA52-4D08-BE38-99BE006C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38603-5EDB-44FC-9D4C-89F8CACE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8CD3-83C6-40B4-8B8B-80B828A8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6597-B63B-473C-A664-521A55A9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E2DE-52AF-4F31-9431-1FA9E34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AAA6-376F-4AE1-A7FD-CF1B1CD5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BD238-FADC-4A94-BFB7-D944F6C1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D8A3-34D1-448F-AACA-56DF4CF8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7299B-FEA5-4FFF-A3E2-E554826C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B2B60-6166-40E7-A4B3-225EAC65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976-EC6F-4EA5-83A9-6D11D2CD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C155E-8CE1-4B08-9352-C2D92862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9086F-E165-400A-AF14-4B5C0DAF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A66D-2B47-4C4F-9092-F05A3BE8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089BC-3EEA-4701-96FA-20ED4F46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834A0-14C2-4A02-9C37-1CF8C617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7AD7D-EEB2-451A-B0A2-BB2F071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DD7B4-EA1F-4C7B-A53E-C201D64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6E6E0-95D4-48D5-A7EE-946C89E9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96CF-AD15-4A2B-AA50-BBF3A9FD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91A13-C6E6-41F4-B45C-A1AC86D4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1C4-338A-45AC-B2EB-7663AE40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0845B-010D-4F82-B0C3-2A62688A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B2C04-7023-439B-998A-1DE3EA16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26406-6A41-46F4-A7B9-4ACB85C4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5CCA-2A34-4D4D-B454-69AF10E6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A96ED-E360-4017-9920-876A5B59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562CC-C3B0-4824-962F-5466FEB4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F8D4-E796-441B-B00C-F6CC2F22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F6A2-3728-48A0-A3BC-96F09D8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95CF7-C428-46C1-A863-7F6AC7B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C2F2-3CB9-4AF9-BD1F-4F005AB9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216-B657-4016-889E-F2ABEB2D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A26C4-9C6B-4D4F-A691-D67E3386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6AA6D-3A8F-4382-BB70-08910995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00DF-B8FA-4406-A66B-B4D38D81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ED4-001D-4D34-9928-61C8EFD1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3AD-FC6E-49E4-ADDE-CAAF0416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3349-489E-4A57-A027-1C6A1F209782}" type="datetime">
              <a:rPr b="0" lang="es-ES" sz="1000" spc="-1" strike="noStrike">
                <a:solidFill>
                  <a:srgbClr val="4e5b6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440480" y="652428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9903-BDDB-475C-ABE0-8779A129434B}" type="slidenum">
              <a:rPr b="0" lang="es-ES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Object 7"/>
          <p:cNvGraphicFramePr/>
          <p:nvPr/>
        </p:nvGraphicFramePr>
        <p:xfrm>
          <a:off x="8299440" y="5950080"/>
          <a:ext cx="6984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99440" y="5950080"/>
                    <a:ext cx="698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9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7" name="9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9" name="10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393840" y="4437000"/>
          <a:ext cx="2017440" cy="198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3840" y="4437000"/>
                    <a:ext cx="20174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A7D2-1BF9-48EA-932F-6A2E1A4EA1A3}" type="datetime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A4F6-D050-41D5-88E9-DE04F039F7CD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4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aphicFrame>
        <p:nvGraphicFramePr>
          <p:cNvPr id="96" name="Object 7"/>
          <p:cNvGraphicFramePr/>
          <p:nvPr/>
        </p:nvGraphicFramePr>
        <p:xfrm>
          <a:off x="8299440" y="5950080"/>
          <a:ext cx="6984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99440" y="5950080"/>
                    <a:ext cx="698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4A22-56D1-4146-8559-B4FD714EE51F}" type="datetime">
              <a:rPr b="0" lang="es-ES" sz="1000" spc="-1" strike="noStrike">
                <a:solidFill>
                  <a:srgbClr val="4e5b6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367760" y="65847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78C8-ABEC-472F-96EC-4101EE8C2911}" type="slidenum">
              <a:rPr b="0" lang="es-ES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4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aphicFrame>
        <p:nvGraphicFramePr>
          <p:cNvPr id="142" name="Object 7"/>
          <p:cNvGraphicFramePr/>
          <p:nvPr/>
        </p:nvGraphicFramePr>
        <p:xfrm>
          <a:off x="8299440" y="5950080"/>
          <a:ext cx="6984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99440" y="5950080"/>
                    <a:ext cx="698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D4E6-D689-4FB0-B243-7A844DEE73FF}" type="datetime">
              <a:rPr b="0" lang="es-ES" sz="1000" spc="-1" strike="noStrike">
                <a:solidFill>
                  <a:srgbClr val="4e5b6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86AE-AB62-4B10-90AF-E897B368A65B}" type="slidenum">
              <a:rPr b="0" lang="es-ES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9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10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7690-90EB-476D-A905-2DBAC43FD67E}" type="datetime">
              <a:rPr b="0" lang="es-ES" sz="1000" spc="-1" strike="noStrike">
                <a:solidFill>
                  <a:srgbClr val="d6ecf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440480" y="652428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118C-E2F6-4FE9-B5FD-02150645D0C8}" type="slidenum"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9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aphicFrame>
        <p:nvGraphicFramePr>
          <p:cNvPr id="231" name="Object 7"/>
          <p:cNvGraphicFramePr/>
          <p:nvPr/>
        </p:nvGraphicFramePr>
        <p:xfrm>
          <a:off x="8299440" y="5950080"/>
          <a:ext cx="6984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99440" y="5950080"/>
                    <a:ext cx="698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292-A48F-44B3-AA28-577B15AB81EA}" type="datetime">
              <a:rPr b="0" lang="es-ES" sz="1000" spc="-1" strike="noStrike">
                <a:solidFill>
                  <a:srgbClr val="4e5b6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15FD-1FDF-49F1-A9A4-B67FC24C0834}" type="slidenum">
              <a:rPr b="0" lang="es-ES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rebuchet MS"/>
              </a:rPr>
              <a:t>Mario Ki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riok@iems-mex.co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3" name="4 Imagen" descr="logo_1.png"/>
          <p:cNvPicPr/>
          <p:nvPr/>
        </p:nvPicPr>
        <p:blipFill>
          <a:blip r:embed="rId2"/>
          <a:stretch/>
        </p:blipFill>
        <p:spPr>
          <a:xfrm>
            <a:off x="135000" y="404640"/>
            <a:ext cx="2419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ódigo para el Desarrollo Sustentable del Estado de Tamaulip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rtículo 65, fracción 1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987480" indent="-457200">
              <a:spcBef>
                <a:spcPts val="400"/>
              </a:spcBef>
              <a:buClr>
                <a:srgbClr val="00addc"/>
              </a:buClr>
              <a:buSzPct val="60000"/>
              <a:buFont typeface="Trebuchet MS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n el desarrollo en sus diversas etapas de la obra o actividad, la Agencia Ambiental, tendrá al promovente y, en su caso, al prestador de servicios, como solidariamente responsables, quienes deberán presentar informes periódicos del cumplimiento de las condiciones y obligaciones derivadas de la autorizació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1FA4-5318-4FAF-A1FB-08363471CBE9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7eea"/>
                </a:solidFill>
                <a:latin typeface="Trebuchet MS"/>
              </a:rPr>
              <a:t>¿Las obras expresamente autorizadas no ocasionan daño al ambient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72B-27AA-4CC3-9518-27BBA7CD30C3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2" descr="C:\Users\Mario Kim\AppData\Local\Microsoft\Windows\Temporary Internet Files\Content.IE5\9YQWYGSO\MC900441902[1].wmf"/>
          <p:cNvPicPr/>
          <p:nvPr/>
        </p:nvPicPr>
        <p:blipFill>
          <a:blip r:embed="rId2"/>
          <a:stretch/>
        </p:blipFill>
        <p:spPr>
          <a:xfrm>
            <a:off x="3276720" y="4508640"/>
            <a:ext cx="15206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mpactos Sistemátic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La continuidad de un impacto “aceptable” eventualmente ocasiona un deterioro o desequilibrio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mpactos Acumulativ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La cantidad de un mismo tipo de impacto “aceptable” genera un deterioro o desequilibrio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mpactos Sinérgi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La relación entre varios tipos de impactos “aceptables” genera un deterioro o desequilibrio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3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F9BA-7B48-46CD-BCF8-E91069EBD4DD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1 Título" descr=""/>
          <p:cNvPicPr/>
          <p:nvPr/>
        </p:nvPicPr>
        <p:blipFill>
          <a:blip r:embed="rId1"/>
          <a:stretch/>
        </p:blipFill>
        <p:spPr>
          <a:xfrm>
            <a:off x="1109520" y="2262240"/>
            <a:ext cx="6686640" cy="1535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C:\Users\Mario Kim\AppData\Local\Microsoft\Windows\Temporary Internet Files\Content.IE5\3CC3472B\MC900197876[1].wmf"/>
          <p:cNvPicPr/>
          <p:nvPr/>
        </p:nvPicPr>
        <p:blipFill>
          <a:blip r:embed="rId2"/>
          <a:stretch/>
        </p:blipFill>
        <p:spPr>
          <a:xfrm>
            <a:off x="395280" y="4365720"/>
            <a:ext cx="28177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GEEPA – Artículo 3°, fracción VII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Situación de riesgo, derivada de actividades humanas o fenómenos naturales, que puede poner en peligro la integridad de uno o varios ecosistemas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CDS – Artículo 4, fracción XII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La situación derivada de actividades humanas o fenómenos naturales que puede poner en riesgo o peligro la integridad de uno o varios ecosistemas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47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1D00-0E04-4F69-B135-EB12D5E26592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50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84E-3F00-4F38-9F67-F25D0393578F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609480" y="1762200"/>
            <a:ext cx="72392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Proyecto de Decreto de la Ley Federal de Responsabilidad Ambiental no considera el término de Contingencia Ambient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7eea"/>
                </a:solidFill>
                <a:latin typeface="Trebuchet MS"/>
              </a:rPr>
              <a:t>¿No existe responsabilidad mientras no haya daño, conforme a la definición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54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8A80-AAF9-4DF9-AA53-2D89D6B5FED3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609480" y="1762200"/>
            <a:ext cx="72392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Daño Ambiental es la pérdida</a:t>
            </a: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, cambio, deterioro, menoscabo, afectación o modificación sea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7eea"/>
                </a:solidFill>
                <a:latin typeface="Trebuchet MS"/>
              </a:rPr>
              <a:t>Adversos y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7eea"/>
                </a:solidFill>
                <a:latin typeface="Trebuchet MS"/>
              </a:rPr>
              <a:t>Mensurable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6" name="Picture 5" descr="iNCENDIO"/>
          <p:cNvPicPr/>
          <p:nvPr/>
        </p:nvPicPr>
        <p:blipFill>
          <a:blip r:embed="rId2"/>
          <a:stretch/>
        </p:blipFill>
        <p:spPr>
          <a:xfrm>
            <a:off x="4249800" y="3500280"/>
            <a:ext cx="341784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1 Título" descr=""/>
          <p:cNvPicPr/>
          <p:nvPr/>
        </p:nvPicPr>
        <p:blipFill>
          <a:blip r:embed="rId1"/>
          <a:stretch/>
        </p:blipFill>
        <p:spPr>
          <a:xfrm>
            <a:off x="1109520" y="2262240"/>
            <a:ext cx="6681960" cy="1535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C:\Users\Mario Kim\AppData\Local\Microsoft\Windows\Temporary Internet Files\Content.IE5\P8DR8HEN\MC900441844[1].wmf"/>
          <p:cNvPicPr/>
          <p:nvPr/>
        </p:nvPicPr>
        <p:blipFill>
          <a:blip r:embed="rId2"/>
          <a:stretch/>
        </p:blipFill>
        <p:spPr>
          <a:xfrm>
            <a:off x="250920" y="4076640"/>
            <a:ext cx="2439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royecto de Decreto de la LFRA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Artículos 10° al 26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Obligaciones Derivadas de los Daños Ocasionados al Ambiente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DS – Artículos 269 al 277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511200" indent="-2732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c6c6c"/>
                </a:solidFill>
                <a:latin typeface="Trebuchet MS"/>
              </a:rPr>
              <a:t>Del Procedimiento por Daño Ambient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5DBF-6476-46AC-BC0E-2CE55D293EA2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1 Título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Toda persona física o moral que con su acción u omisión ocasione directa o indirectamente un Daño al ambiente será responsable y estará obligada a la reparación de los Daños, o bien, cuando la reparación sea posible a la compensación ambiental que proceda, en los términos de la presente Le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7eea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7eea"/>
                </a:solidFill>
                <a:latin typeface="Trebuchet MS"/>
              </a:rPr>
              <a:t>De la misma forma estará obligada a realizar las acciones necesarias para evitar que se incremente el Daño ocasionado al ambien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877D-6DC7-4A93-A0CD-79EE4BE2BCFC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Daño Ambient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Contingencia Ambient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Responsabilidad Ambient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Oportunidad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Preguntas y Respuest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1 Título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La reparación de los Daños ocasionados al ambiente consistirá en restituir a su Estado Base los hábitat, los ecosistemas, los elementos y recursos naturales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7eea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7eea"/>
                </a:solidFill>
                <a:latin typeface="Trebuchet MS"/>
              </a:rPr>
              <a:t>La reparación deberá llevarse a cabo en el lugar en el que fue producido el Dañ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9DEC-30CF-4524-9A00-E3AC329046B1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1 Título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La compensación ambiental procederá por excepción en los siguientes cas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Cuando resulte material o técnicamente imposible la reparación total o parcial del Daño, 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Cuando se actualicen los tres supuestos siguientes: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998640" indent="-514440">
              <a:spcBef>
                <a:spcPts val="400"/>
              </a:spcBef>
              <a:buClr>
                <a:srgbClr val="00addc"/>
              </a:buClr>
              <a:buSzPct val="60000"/>
              <a:buFont typeface="Trebuchet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Que los Daños al ambiente hayan sido producidos por una obra o actividad</a:t>
            </a:r>
            <a:r>
              <a:rPr b="1" lang="es-MX" sz="2000" spc="-1" strike="noStrike">
                <a:solidFill>
                  <a:srgbClr val="007eea"/>
                </a:solidFill>
                <a:latin typeface="Trebuchet MS"/>
              </a:rPr>
              <a:t> ilícita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que debió haber sido objeto de evaluación y autorización previa en materia de impacto ambiental o cambio de uso de suelo en terrenos forestale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83F5-E050-4D43-BF01-84AFFDE9D2B7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La compensación ambiental procederá por excepción en los siguientes cas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Cuando se actualicen los tres supuestos siguientes: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998640" indent="-514440">
              <a:spcBef>
                <a:spcPts val="400"/>
              </a:spcBef>
              <a:buClr>
                <a:srgbClr val="00addc"/>
              </a:buClr>
              <a:buSzPct val="60000"/>
              <a:buFont typeface="Trebuchet MS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Que la Secretaría haya evaluado en su conjunto los Daños producidos</a:t>
            </a:r>
            <a:r>
              <a:rPr b="0" lang="es-MX" sz="2000" spc="-1" strike="noStrike">
                <a:solidFill>
                  <a:srgbClr val="007eea"/>
                </a:solidFill>
                <a:latin typeface="Trebuchet MS"/>
              </a:rPr>
              <a:t> </a:t>
            </a:r>
            <a:r>
              <a:rPr b="1" lang="es-MX" sz="2000" spc="-1" strike="noStrike">
                <a:solidFill>
                  <a:srgbClr val="007eea"/>
                </a:solidFill>
                <a:latin typeface="Trebuchet MS"/>
              </a:rPr>
              <a:t>ilícitamente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, y las obras y actividades asociadas a esos Daños que se encuentren aún </a:t>
            </a:r>
            <a:r>
              <a:rPr b="1" lang="es-MX" sz="2000" spc="-1" strike="noStrike">
                <a:solidFill>
                  <a:srgbClr val="007eea"/>
                </a:solidFill>
                <a:latin typeface="Trebuchet MS"/>
              </a:rPr>
              <a:t>pendientes de realizar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a futuro, y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B15C-4129-4997-BBAB-1C9789155A64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1 Título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La compensación ambiental procederá por excepción en los siguientes cas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Cuando se actualicen los tres supuestos siguientes: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998640" indent="-514440">
              <a:spcBef>
                <a:spcPts val="400"/>
              </a:spcBef>
              <a:buClr>
                <a:srgbClr val="00addc"/>
              </a:buClr>
              <a:buSzPct val="60000"/>
              <a:buFont typeface="Trebuchet MS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Que la Secretaría expida una </a:t>
            </a:r>
            <a:r>
              <a:rPr b="1" lang="es-MX" sz="2000" spc="-1" strike="noStrike">
                <a:solidFill>
                  <a:srgbClr val="007eea"/>
                </a:solidFill>
                <a:latin typeface="Trebuchet MS"/>
              </a:rPr>
              <a:t>autorización posterior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al Daño, al acreditarse plenamente que tanto las obras y las actividades ilícitas, como las que se realizarán a futuro, resultan en su conjunto sustentables, y </a:t>
            </a:r>
            <a:r>
              <a:rPr b="1" lang="es-MX" sz="2000" spc="-1" strike="noStrike">
                <a:solidFill>
                  <a:srgbClr val="007eea"/>
                </a:solidFill>
                <a:latin typeface="Trebuchet MS"/>
              </a:rPr>
              <a:t>jurídica y ambientalmente procedentes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en términos de lo dispuesto por las Leyes ambientales y los instrumentos de política ambient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FFFB-03B4-4B5F-B0ED-5B2D2353D1A6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AutoShap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85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A57F-761A-4BA2-9A88-BDF3AD4F3F4A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09480" y="1762200"/>
            <a:ext cx="72392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No se establece en la Ley cual es el procedimiento de evaluación de Daños Ambienta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7eea"/>
                </a:solidFill>
                <a:latin typeface="Trebuchet MS"/>
              </a:rPr>
              <a:t>No hay una figura de Estudio de Daños Ambienta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89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8BF2-C562-42B8-838C-15ECAD45B8D8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609480" y="1762200"/>
            <a:ext cx="72392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7eea"/>
                </a:solidFill>
                <a:latin typeface="Trebuchet MS"/>
              </a:rPr>
              <a:t>¿</a:t>
            </a:r>
            <a:r>
              <a:rPr b="1" lang="es-ES" sz="2800" spc="-1" strike="noStrike">
                <a:solidFill>
                  <a:srgbClr val="007eea"/>
                </a:solidFill>
                <a:latin typeface="Trebuchet MS"/>
              </a:rPr>
              <a:t>Cuando resulta material o técnicamente imposible la reparación total o parcial del Daño</a:t>
            </a:r>
            <a:r>
              <a:rPr b="1" lang="es-MX" sz="2800" spc="-1" strike="noStrike">
                <a:solidFill>
                  <a:srgbClr val="007eea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2"/>
          <a:stretch/>
        </p:blipFill>
        <p:spPr>
          <a:xfrm>
            <a:off x="2484360" y="3914640"/>
            <a:ext cx="3382920" cy="25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1 Título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l CDS contempla una figura de Estudio de Daños Ambientales que debe contener al men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37280" indent="-49860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Evidencia de la condición ambiental que  prevalecía en el sitio previo a la realización las obras o actividades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37280" indent="-49860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Análisis, cuantificación y valorización de los impactos generados por la obra o actividad, así como de los impactos sinérgicos generados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37280" indent="-49860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Análisis, en su caso, del riesgo; 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37280" indent="-49860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Propuesta de medios de mitigación y compensación a los impactos identificados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94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970B-52E8-44D2-A164-60BFEE0FAD9E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1 Título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Una vez recibido y evaluado, la Autoridad podrí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Autorizar la obra o actividad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Autorizar la obra o actividad de manera condicionada; 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00addc"/>
              </a:buClr>
              <a:buSzPct val="8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Negar definitivamente la autorización para la obra o actividad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98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3A88-E721-42E4-B18F-3AE096A503DB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eea"/>
                </a:solidFill>
                <a:latin typeface="Trebuchet MS"/>
              </a:rPr>
              <a:t>Pero… ¿cuando es responsabilidad ambiental… Federal o Estatal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DAD2-11D7-47A2-B001-8243079DC584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4" name="Picture 2" descr="C:\Users\Mario Kim\AppData\Local\Microsoft\Windows\Temporary Internet Files\Content.IE5\9YQWYGSO\MM900395769[1].gif"/>
          <p:cNvPicPr/>
          <p:nvPr/>
        </p:nvPicPr>
        <p:blipFill>
          <a:blip r:embed="rId2"/>
          <a:stretch/>
        </p:blipFill>
        <p:spPr>
          <a:xfrm>
            <a:off x="3132000" y="3573360"/>
            <a:ext cx="18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1109520" y="2262240"/>
            <a:ext cx="6546960" cy="1535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Users\Mario Kim\AppData\Local\Microsoft\Windows\Temporary Internet Files\Content.IE5\LEEUQOGC\MC900078770[1].wmf"/>
          <p:cNvPicPr/>
          <p:nvPr/>
        </p:nvPicPr>
        <p:blipFill>
          <a:blip r:embed="rId2"/>
          <a:stretch/>
        </p:blipFill>
        <p:spPr>
          <a:xfrm>
            <a:off x="468360" y="4292640"/>
            <a:ext cx="337500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1 Título" descr=""/>
          <p:cNvPicPr/>
          <p:nvPr/>
        </p:nvPicPr>
        <p:blipFill>
          <a:blip r:embed="rId1"/>
          <a:stretch/>
        </p:blipFill>
        <p:spPr>
          <a:xfrm>
            <a:off x="1060560" y="2048040"/>
            <a:ext cx="6688080" cy="1530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Users\Mario Kim\AppData\Local\Microsoft\Windows\Temporary Internet Files\Content.IE5\LI6WKKJM\MP900437303[1].jpg"/>
          <p:cNvPicPr/>
          <p:nvPr/>
        </p:nvPicPr>
        <p:blipFill>
          <a:blip r:embed="rId2"/>
          <a:stretch/>
        </p:blipFill>
        <p:spPr>
          <a:xfrm>
            <a:off x="0" y="4125960"/>
            <a:ext cx="2556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La evaluación de los impactos ambientales debe ser siempre de manera </a:t>
            </a:r>
            <a:r>
              <a:rPr b="1" lang="es-MX" sz="2600" spc="-1" strike="noStrike">
                <a:solidFill>
                  <a:srgbClr val="007eea"/>
                </a:solidFill>
                <a:latin typeface="Trebuchet MS"/>
              </a:rPr>
              <a:t>preventiv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Debe existir un procedimiento establecido para la </a:t>
            </a:r>
            <a:r>
              <a:rPr b="1" lang="es-MX" sz="2600" spc="-1" strike="noStrike">
                <a:solidFill>
                  <a:srgbClr val="007eea"/>
                </a:solidFill>
                <a:latin typeface="Trebuchet MS"/>
              </a:rPr>
              <a:t>evaluación de dañ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Para ello es necesario establecer la figura de </a:t>
            </a:r>
            <a:r>
              <a:rPr b="1" lang="es-MX" sz="2300" spc="-1" strike="noStrike">
                <a:solidFill>
                  <a:srgbClr val="007eea"/>
                </a:solidFill>
                <a:latin typeface="Trebuchet MS"/>
              </a:rPr>
              <a:t>Estudio de Daños Ambientales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09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FDD6-38EF-4EB1-B8BE-EE6E9BE91E71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Los Estudios de Daños Ambientales deben presentarse previo a la decisión de continuar una activida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Actualmente un Estudio de Daños Ambientales es la forma de </a:t>
            </a:r>
            <a:r>
              <a:rPr b="1" lang="es-MX" sz="2300" spc="-1" strike="noStrike">
                <a:solidFill>
                  <a:srgbClr val="007eea"/>
                </a:solidFill>
                <a:latin typeface="Trebuchet MS"/>
              </a:rPr>
              <a:t>regularizarse</a:t>
            </a: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 con la Autoridad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El resultado de la evaluación de estos estudios deberá establecerse en: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Reparación, 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mpensació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1D20-D318-4D4E-9B88-B159CD343EAE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La autorizaciones en materia d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Residuos Peligroso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Residuos de Manejo Especia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Descarga de Aguas Residual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Emisiones a la Atmósfer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no representan una evaluación en materia de impactos ambienta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2600" spc="-1" strike="noStrike">
                <a:solidFill>
                  <a:srgbClr val="007eea"/>
                </a:solidFill>
                <a:latin typeface="Trebuchet MS"/>
              </a:rPr>
              <a:t>Deben definirse las autorizaciones análogas que serán aceptadas bajo el esquema de la Le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6A7A-F5E1-41E7-92E5-A66E79BDC366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La evaluación de Daños Ambientales debe involucrar en todo momento a la Secretaría, sin importar la jurisdicción de la evaluación de impacto ambiental original, para que esta, en su criterio, defina el alcance bajo el cual debe ser evaluado el daño ocasionad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7eea"/>
                </a:solidFill>
                <a:latin typeface="Trebuchet MS"/>
              </a:rPr>
              <a:t>Los impactos ocasionados puede tener consecuencias sistémicas, sinérgicas o acumulativ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CD62-797B-48E2-9C7D-888BC9D89985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l CDS del Estado de Tamaulipas actualmente únicamente considera la compensación del Daño Ambient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Los Daños Ambientales que caen dentro de jurisdicción Estatal deberían ser más factibles de reparar, de conformidad con los criterios de la Ley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La legislación Estatal deberá evaluarse para reformarse acorde con lo que la Ley pudiera oficializar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D612-640C-4F18-8E2E-1DEF996D6F9D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DS – Artículo 27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6c6c6c"/>
                </a:solidFill>
                <a:latin typeface="Trebuchet MS"/>
              </a:rPr>
              <a:t>En cualquier momento del procedimiento de evaluación del daño ambiental, la Agencia Ambiental podrá suspender las obras o actividades iniciadas, </a:t>
            </a:r>
            <a:r>
              <a:rPr b="1" lang="es-ES" sz="2100" spc="-1" strike="noStrike">
                <a:solidFill>
                  <a:srgbClr val="007eea"/>
                </a:solidFill>
                <a:latin typeface="Trebuchet MS"/>
              </a:rPr>
              <a:t>cuando el impacto adverso ocasionado haya atentado, atente o pueda ocasionar afectaciones </a:t>
            </a:r>
            <a:r>
              <a:rPr b="0" lang="es-ES" sz="2100" spc="-1" strike="noStrike">
                <a:solidFill>
                  <a:srgbClr val="6c6c6c"/>
                </a:solidFill>
                <a:latin typeface="Trebuchet MS"/>
              </a:rPr>
              <a:t>contra la salud de las personas, o riesgo para el equilibrio ecológico, los ecosistemas o los recursos que lo integran, y los bienes y propiedades pertenecientes a los particulares.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7eea"/>
                </a:solidFill>
                <a:latin typeface="Trebuchet MS"/>
              </a:rPr>
              <a:t>Toda obra o actividad que no haya sido previamente evaluada debería ser suspendid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AA62-06A3-4BA3-9AD6-1757E57FF473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No se trata de no realizar obras o actividades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eea"/>
                </a:solidFill>
                <a:latin typeface="Trebuchet MS"/>
              </a:rPr>
              <a:t>Se trata de ser ambientalmente responsables al realizarla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7933-51B4-4544-9564-362EF2EECAE6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8" name="Picture 3" descr="C:\Users\Mario Kim\AppData\Local\Microsoft\Windows\Temporary Internet Files\Content.IE5\9YQWYGSO\MC900231385[1].wmf"/>
          <p:cNvPicPr/>
          <p:nvPr/>
        </p:nvPicPr>
        <p:blipFill>
          <a:blip r:embed="rId2"/>
          <a:stretch/>
        </p:blipFill>
        <p:spPr>
          <a:xfrm>
            <a:off x="2627280" y="4292640"/>
            <a:ext cx="3024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Título" descr=""/>
          <p:cNvPicPr/>
          <p:nvPr/>
        </p:nvPicPr>
        <p:blipFill>
          <a:blip r:embed="rId1"/>
          <a:stretch/>
        </p:blipFill>
        <p:spPr>
          <a:xfrm>
            <a:off x="1060560" y="2657520"/>
            <a:ext cx="6699240" cy="1530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C:\Users\Mario Kim\AppData\Local\Microsoft\Windows\Temporary Internet Files\Content.IE5\B45GVKQ7\MM900282747[1].gif"/>
          <p:cNvPicPr/>
          <p:nvPr/>
        </p:nvPicPr>
        <p:blipFill>
          <a:blip r:embed="rId2"/>
          <a:stretch/>
        </p:blipFill>
        <p:spPr>
          <a:xfrm>
            <a:off x="399960" y="4508640"/>
            <a:ext cx="2011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79920" cy="28782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rebuchet MS"/>
              </a:rPr>
              <a:t>Mario Ki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riok@iems-mex.co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3" name="3 Imagen" descr="logo_1.png"/>
          <p:cNvPicPr/>
          <p:nvPr/>
        </p:nvPicPr>
        <p:blipFill>
          <a:blip r:embed="rId2"/>
          <a:stretch/>
        </p:blipFill>
        <p:spPr>
          <a:xfrm>
            <a:off x="135000" y="404640"/>
            <a:ext cx="2419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yecto de Decreto de la Ley Federal de Responsabilidad Ambient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rtículo 2°, fracción III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Daño al ambient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érdida, cambio, deterioro, menoscabo, afectación o modificación adversos y mensurable de los hábitat, de los ecosistemas, de los elementos y recursos naturales, de sus condiciones químicas, físicas o biológicas, de las relaciones de interacción que se dan entre éstos, así como de los Servicios Ambientales que proporciona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ara esta definición se estará a lo dispuestos por el Artículo 6° de esta Le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A5C2-50CA-42B0-BE72-8767EC3AEAA3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609200"/>
            <a:ext cx="7354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yecto de Decreto de la Ley Federal de Responsabilidad Ambient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rtículo 6°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No se considerará que existe Daño al ambiente cuando los menoscabos, pérdidas, afectaciones, modificaciones o deterioros no sean adversos en virtud d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00addc"/>
              </a:buClr>
              <a:buSzPct val="60000"/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rebuchet MS"/>
              </a:rPr>
              <a:t>Haber sido expresamente manifestados por el responsable y explícitamente identificados, delimitados en su alcance, evaluados, mitigados, compensados y autorizados por la Secretaría, previamente a la realización de la conducta que los origina, mediante la evaluación del impacto ambiental o su informe preventivo, la autorización de cambio de uso de suelo forestal o algún otro tipo de autorización análoga expedida por la Secretaría, o de que,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0F13-69DF-4291-BE27-8664FBCD34D8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yecto de Decreto de la Ley Federal de Responsabilidad Ambient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rtículo 6°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No se considerará que existe Daño al ambiente cuando los menoscabos, pérdidas, afectaciones, modificaciones o deterioros no sean adversos en virtud d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00addc"/>
              </a:buClr>
              <a:buSzPct val="60000"/>
              <a:buFont typeface="Trebuchet MS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rebuchet MS"/>
              </a:rPr>
              <a:t>No se rebasen los límites previstos por las disposiciones que en su caso prevean las Leyes ambientales o las normas oficiales mexicanas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2576-B6B9-42B1-8DBC-8A1CA785481F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yecto de Decreto de la Ley Federal de Responsabilidad Ambient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rtículo 6°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 excepción prevista por la fracción primera del presente Artículo </a:t>
            </a:r>
            <a:r>
              <a:rPr b="1" lang="es-MX" sz="2000" spc="-1" strike="noStrike" u="sng">
                <a:solidFill>
                  <a:srgbClr val="007eea"/>
                </a:solidFill>
                <a:uFillTx/>
                <a:latin typeface="Trebuchet MS"/>
              </a:rPr>
              <a:t>no operará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, cuando se incumplan los términos o condiciones de la autorización expedida por la autorid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A7BD-E7BE-4B0F-A31A-044B15A9FBA2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ódigo para el Desarrollo Sustentable del Estado de Tamaulip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rtículo 4, fracción XV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Daño ambient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alteración relevante que modifique negativamente el medio ambiente, sus recursos, el equilibrio de los ecosistemas, la salud humana o los bienes o valores ambientales colectivo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EC2B-5726-4B83-93E6-D0AF07370B59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1 Título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ódigo para el Desarrollo Sustentable del Estado de Tamaulip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rtículo 65, fracción 1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987480" indent="-457200">
              <a:spcBef>
                <a:spcPts val="400"/>
              </a:spcBef>
              <a:buClr>
                <a:srgbClr val="00addc"/>
              </a:buClr>
              <a:buSzPct val="60000"/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na vez autorizada la obra o actividad, el responsable de la misma deberá implementar en tiempo y forma las medidas de prevención o mitigación, así como las demás condicionantes, en su caso, que le haya ordenado la Agencia Ambient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7480" indent="-457200">
              <a:spcBef>
                <a:spcPts val="400"/>
              </a:spcBef>
              <a:buClr>
                <a:srgbClr val="00addc"/>
              </a:buClr>
              <a:buSzPct val="60000"/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os promoventes de las obras o actividades y los titulares de los inmuebles en los que se pretende su desarrollo, deberán sujetarse a las condiciones y limitaciones que señale la autorización respectiv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5 Marcador de número de diapositiva"/>
          <p:cNvSpPr/>
          <p:nvPr/>
        </p:nvSpPr>
        <p:spPr>
          <a:xfrm>
            <a:off x="8364600" y="3348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B95-A602-41BA-B37C-712D207134D0}" type="slidenum">
              <a:rPr b="1" lang="es-E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4:25:31Z</dcterms:created>
  <dc:creator>Maria Virginia Hernandez Rubio</dc:creator>
  <dc:description/>
  <dc:language>en-US</dc:language>
  <cp:lastModifiedBy>Mario Kim</cp:lastModifiedBy>
  <dcterms:modified xsi:type="dcterms:W3CDTF">2012-08-20T22:27:22Z</dcterms:modified>
  <cp:revision>163</cp:revision>
  <dc:subject/>
  <dc:title>Diapositiva 1</dc:title>
</cp:coreProperties>
</file>