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89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008240" y="0"/>
            <a:ext cx="3066840" cy="447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01400" y="673200"/>
            <a:ext cx="4473720" cy="33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8429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50572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400824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366-2F11-4E6E-B36B-85A57935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6E28-3526-43ED-9636-480D0B55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615-A802-4917-A306-F090234D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4AAA-24EE-4BF9-9E22-CFBB5FD1692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EF1-1A80-486B-8D30-5D4E3155102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7ECE-0089-4FDE-98C2-14274651834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ECF7-D2F7-41B5-B592-562FAE25411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C27C-254B-4C3C-9418-1B6E5AEB380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246-3BF1-4961-ABC5-0B48F926B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253040"/>
            <a:ext cx="51879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0653-BAB4-481E-BF6C-D300AC42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FBD1-9CE2-447C-8039-B16B27AB7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0A8-B146-47B3-9B5A-168495B0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F14-C146-4CC5-88FB-EE764541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D1B6-54E5-4864-BA5F-9020E633D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4D08-2A5E-4DDD-AC29-9599C569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51B-23AC-44EE-BB45-174F5720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3095-E5D3-431E-8BE6-3F8D4048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1760" y="6732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7760" y="425304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DB6-AD7B-4047-AF6B-EF585DBD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848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4118400"/>
            <a:ext cx="7848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56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7560" y="159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1120" y="159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411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7560" y="411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1120" y="411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360" y="839520"/>
            <a:ext cx="577368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00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56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4118400"/>
            <a:ext cx="7848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848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000" y="4118400"/>
            <a:ext cx="7848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56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560" y="159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1120" y="159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000" y="411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560" y="411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1120" y="4118400"/>
            <a:ext cx="25268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839520"/>
            <a:ext cx="577368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560" y="411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560" y="1598400"/>
            <a:ext cx="38296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4118400"/>
            <a:ext cx="7848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spcBef>
                <a:spcPts val="400"/>
              </a:spcBef>
              <a:buClr>
                <a:srgbClr val="f78429"/>
              </a:buClr>
              <a:buSzPct val="9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spcBef>
                <a:spcPts val="400"/>
              </a:spcBef>
              <a:buClr>
                <a:srgbClr val="f78429"/>
              </a:buClr>
              <a:buSzPct val="9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4583160" y="6477120"/>
            <a:ext cx="452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DEINN CONSULTORÍA. Derechos Reservados ©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842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pic>
        <p:nvPicPr>
          <p:cNvPr id="3" name="Picture 1026" descr="logo duhne"/>
          <p:cNvPicPr/>
          <p:nvPr/>
        </p:nvPicPr>
        <p:blipFill>
          <a:blip r:embed="rId2"/>
          <a:stretch/>
        </p:blipFill>
        <p:spPr>
          <a:xfrm>
            <a:off x="8035920" y="6453360"/>
            <a:ext cx="911160" cy="277560"/>
          </a:xfrm>
          <a:prstGeom prst="rect">
            <a:avLst/>
          </a:prstGeom>
          <a:ln w="0">
            <a:noFill/>
          </a:ln>
        </p:spPr>
      </p:pic>
      <p:sp>
        <p:nvSpPr>
          <p:cNvPr id="4" name="Line 1028"/>
          <p:cNvSpPr/>
          <p:nvPr/>
        </p:nvSpPr>
        <p:spPr>
          <a:xfrm>
            <a:off x="136440" y="6629400"/>
            <a:ext cx="77724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29"/>
          <p:cNvSpPr/>
          <p:nvPr/>
        </p:nvSpPr>
        <p:spPr>
          <a:xfrm>
            <a:off x="149400" y="6629400"/>
            <a:ext cx="19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Arial"/>
              </a:rPr>
              <a:t>©2012 Duhne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31" descr="icono"/>
          <p:cNvPicPr/>
          <p:nvPr/>
        </p:nvPicPr>
        <p:blipFill>
          <a:blip r:embed="rId3"/>
          <a:stretch/>
        </p:blipFill>
        <p:spPr>
          <a:xfrm>
            <a:off x="8381880" y="52560"/>
            <a:ext cx="660600" cy="63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4583160" y="6477120"/>
            <a:ext cx="452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DEINN CONSULTORÍA. Derechos Reservados ©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600200" y="1600200"/>
            <a:ext cx="5791320" cy="3733920"/>
          </a:xfrm>
          <a:prstGeom prst="rect">
            <a:avLst/>
          </a:prstGeom>
          <a:solidFill>
            <a:srgbClr val="f47b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logo duhne"/>
          <p:cNvPicPr/>
          <p:nvPr/>
        </p:nvPicPr>
        <p:blipFill>
          <a:blip r:embed="rId2"/>
          <a:stretch/>
        </p:blipFill>
        <p:spPr>
          <a:xfrm>
            <a:off x="8035920" y="6453360"/>
            <a:ext cx="911160" cy="27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icono"/>
          <p:cNvPicPr/>
          <p:nvPr/>
        </p:nvPicPr>
        <p:blipFill>
          <a:blip r:embed="rId3"/>
          <a:stretch/>
        </p:blipFill>
        <p:spPr>
          <a:xfrm>
            <a:off x="8381880" y="52560"/>
            <a:ext cx="660600" cy="63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spcBef>
                <a:spcPts val="400"/>
              </a:spcBef>
              <a:buClr>
                <a:srgbClr val="f78429"/>
              </a:buClr>
              <a:buSzPct val="9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spcBef>
                <a:spcPts val="400"/>
              </a:spcBef>
              <a:buClr>
                <a:srgbClr val="f78429"/>
              </a:buClr>
              <a:buSzPct val="9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842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3887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78429"/>
                </a:solidFill>
                <a:latin typeface="Arial"/>
              </a:rPr>
              <a:t>Bienvenidos</a:t>
            </a:r>
            <a:endParaRPr b="0" lang="en-US" sz="48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93" name="5 Rectángulo"/>
          <p:cNvSpPr/>
          <p:nvPr/>
        </p:nvSpPr>
        <p:spPr>
          <a:xfrm>
            <a:off x="3809880" y="3809880"/>
            <a:ext cx="457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aching Ejecutivo</a:t>
            </a:r>
            <a:br>
              <a:rPr sz="4000"/>
            </a:b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gosto 201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36160" y="185760"/>
            <a:ext cx="57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imensiones del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32 Grupo" descr=""/>
          <p:cNvPicPr/>
          <p:nvPr/>
        </p:nvPicPr>
        <p:blipFill>
          <a:blip r:embed="rId1"/>
          <a:stretch/>
        </p:blipFill>
        <p:spPr>
          <a:xfrm>
            <a:off x="2792520" y="1785960"/>
            <a:ext cx="4314600" cy="43164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839880"/>
            <a:ext cx="708804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Desarrollo de la persona en sus 4 dimensiones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1136160" y="185760"/>
            <a:ext cx="57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imensiones del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32 Grupo" descr=""/>
          <p:cNvPicPr/>
          <p:nvPr/>
        </p:nvPicPr>
        <p:blipFill>
          <a:blip r:embed="rId1"/>
          <a:stretch/>
        </p:blipFill>
        <p:spPr>
          <a:xfrm>
            <a:off x="6303960" y="1500120"/>
            <a:ext cx="2651040" cy="2633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839880"/>
            <a:ext cx="708804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Desarrollo de la persona en sus 4 dimensiones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686240" y="2133720"/>
            <a:ext cx="236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nguaj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romi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la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136160" y="185760"/>
            <a:ext cx="57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imensiones del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32 Grupo" descr=""/>
          <p:cNvPicPr/>
          <p:nvPr/>
        </p:nvPicPr>
        <p:blipFill>
          <a:blip r:embed="rId1"/>
          <a:stretch/>
        </p:blipFill>
        <p:spPr>
          <a:xfrm>
            <a:off x="6046920" y="1500120"/>
            <a:ext cx="2736720" cy="271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000" y="839880"/>
            <a:ext cx="708804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Desarrollo de la persona en sus 4 dimensiones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79" name="18 CuadroTexto"/>
          <p:cNvSpPr/>
          <p:nvPr/>
        </p:nvSpPr>
        <p:spPr>
          <a:xfrm>
            <a:off x="1673280" y="2133720"/>
            <a:ext cx="216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rporal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v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rm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136160" y="185760"/>
            <a:ext cx="57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imensiones del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32 Grupo" descr=""/>
          <p:cNvPicPr/>
          <p:nvPr/>
        </p:nvPicPr>
        <p:blipFill>
          <a:blip r:embed="rId1"/>
          <a:stretch/>
        </p:blipFill>
        <p:spPr>
          <a:xfrm>
            <a:off x="6089760" y="1274760"/>
            <a:ext cx="2693880" cy="27068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000" y="839880"/>
            <a:ext cx="708804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Desarrollo de la persona en sus 4 dimensiones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84" name="18 CuadroTexto"/>
          <p:cNvSpPr/>
          <p:nvPr/>
        </p:nvSpPr>
        <p:spPr>
          <a:xfrm>
            <a:off x="1686600" y="2133720"/>
            <a:ext cx="287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mocion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o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dos de án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ie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ejo de 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136160" y="185760"/>
            <a:ext cx="57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imensiones del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32 Grupo" descr=""/>
          <p:cNvPicPr/>
          <p:nvPr/>
        </p:nvPicPr>
        <p:blipFill>
          <a:blip r:embed="rId1"/>
          <a:stretch/>
        </p:blipFill>
        <p:spPr>
          <a:xfrm>
            <a:off x="6297480" y="1219320"/>
            <a:ext cx="2730600" cy="2762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839880"/>
            <a:ext cx="708804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Desarrollo de la persona en sus 4 dimensiones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89" name="18 CuadroTexto"/>
          <p:cNvSpPr/>
          <p:nvPr/>
        </p:nvSpPr>
        <p:spPr>
          <a:xfrm>
            <a:off x="1695240" y="2133720"/>
            <a:ext cx="44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ascen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jar hu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ntido de la vida y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piri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581280" y="5797440"/>
            <a:ext cx="1981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d7d7d"/>
                </a:solidFill>
                <a:latin typeface="Arial"/>
              </a:rPr>
              <a:t>Carretera Nacional 5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d7d7d"/>
                </a:solidFill>
                <a:latin typeface="Arial"/>
              </a:rPr>
              <a:t>Suite 101 Plaza La Rioj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d7d7d"/>
                </a:solidFill>
                <a:latin typeface="Arial"/>
              </a:rPr>
              <a:t>Monterrey, NL 6498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d7d7d"/>
                </a:solidFill>
                <a:latin typeface="Arial"/>
              </a:rPr>
              <a:t>52 (81) 8357 197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d7d7d"/>
                </a:solidFill>
                <a:latin typeface="Arial"/>
              </a:rPr>
              <a:t>www.duhne.com.m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logo"/>
          <p:cNvPicPr/>
          <p:nvPr/>
        </p:nvPicPr>
        <p:blipFill>
          <a:blip r:embed="rId1"/>
          <a:stretch/>
        </p:blipFill>
        <p:spPr>
          <a:xfrm>
            <a:off x="4038480" y="5257800"/>
            <a:ext cx="1143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78429"/>
                </a:solidFill>
                <a:latin typeface="Arial"/>
              </a:rPr>
              <a:t>Entiendo al otro observador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grpSp>
        <p:nvGrpSpPr>
          <p:cNvPr id="293" name="10 Grupo"/>
          <p:cNvGrpSpPr/>
          <p:nvPr/>
        </p:nvGrpSpPr>
        <p:grpSpPr>
          <a:xfrm>
            <a:off x="2743200" y="2133720"/>
            <a:ext cx="3825720" cy="3224880"/>
            <a:chOff x="2743200" y="2133720"/>
            <a:chExt cx="3825720" cy="3224880"/>
          </a:xfrm>
        </p:grpSpPr>
        <p:sp>
          <p:nvSpPr>
            <p:cNvPr id="294" name="TextBox 47"/>
            <p:cNvSpPr/>
            <p:nvPr/>
          </p:nvSpPr>
          <p:spPr>
            <a:xfrm>
              <a:off x="2743200" y="306432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ador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47"/>
            <p:cNvSpPr/>
            <p:nvPr/>
          </p:nvSpPr>
          <p:spPr>
            <a:xfrm>
              <a:off x="2743200" y="508212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ador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58 Grupo"/>
            <p:cNvGrpSpPr/>
            <p:nvPr/>
          </p:nvGrpSpPr>
          <p:grpSpPr>
            <a:xfrm>
              <a:off x="3109680" y="2133720"/>
              <a:ext cx="3459240" cy="3224880"/>
              <a:chOff x="3109680" y="2133720"/>
              <a:chExt cx="3459240" cy="3224880"/>
            </a:xfrm>
          </p:grpSpPr>
          <p:pic>
            <p:nvPicPr>
              <p:cNvPr id="297" name="57 Grupo" descr=""/>
              <p:cNvPicPr/>
              <p:nvPr/>
            </p:nvPicPr>
            <p:blipFill>
              <a:blip r:embed="rId1"/>
              <a:stretch/>
            </p:blipFill>
            <p:spPr>
              <a:xfrm>
                <a:off x="3109680" y="2133720"/>
                <a:ext cx="54828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Oval 38"/>
              <p:cNvSpPr/>
              <p:nvPr/>
            </p:nvSpPr>
            <p:spPr>
              <a:xfrm>
                <a:off x="3209040" y="3065760"/>
                <a:ext cx="356400" cy="62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2"/>
              <p:cNvSpPr/>
              <p:nvPr/>
            </p:nvSpPr>
            <p:spPr>
              <a:xfrm>
                <a:off x="3236040" y="4151520"/>
                <a:ext cx="293040" cy="291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53"/>
              <p:cNvSpPr/>
              <p:nvPr/>
            </p:nvSpPr>
            <p:spPr>
              <a:xfrm>
                <a:off x="3110400" y="4449600"/>
                <a:ext cx="544680" cy="624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54"/>
              <p:cNvSpPr/>
              <p:nvPr/>
            </p:nvSpPr>
            <p:spPr>
              <a:xfrm>
                <a:off x="3209040" y="5083560"/>
                <a:ext cx="356400" cy="62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77"/>
              <p:cNvSpPr/>
              <p:nvPr/>
            </p:nvSpPr>
            <p:spPr>
              <a:xfrm>
                <a:off x="4466520" y="3090240"/>
                <a:ext cx="289440" cy="28980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78"/>
              <p:cNvSpPr/>
              <p:nvPr/>
            </p:nvSpPr>
            <p:spPr>
              <a:xfrm>
                <a:off x="4343400" y="3386160"/>
                <a:ext cx="536040" cy="62172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79"/>
              <p:cNvSpPr/>
              <p:nvPr/>
            </p:nvSpPr>
            <p:spPr>
              <a:xfrm>
                <a:off x="4436280" y="4012200"/>
                <a:ext cx="350640" cy="62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47"/>
              <p:cNvSpPr/>
              <p:nvPr/>
            </p:nvSpPr>
            <p:spPr>
              <a:xfrm>
                <a:off x="3995640" y="4012200"/>
                <a:ext cx="127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Observador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8"/>
              <p:cNvSpPr/>
              <p:nvPr/>
            </p:nvSpPr>
            <p:spPr>
              <a:xfrm>
                <a:off x="5764320" y="2133720"/>
                <a:ext cx="292680" cy="291960"/>
              </a:xfrm>
              <a:prstGeom prst="ellipse">
                <a:avLst/>
              </a:prstGeom>
              <a:solidFill>
                <a:srgbClr val="8da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49"/>
              <p:cNvSpPr/>
              <p:nvPr/>
            </p:nvSpPr>
            <p:spPr>
              <a:xfrm>
                <a:off x="5638680" y="2431800"/>
                <a:ext cx="543600" cy="624960"/>
              </a:xfrm>
              <a:prstGeom prst="ellipse">
                <a:avLst/>
              </a:prstGeom>
              <a:solidFill>
                <a:srgbClr val="8da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50"/>
              <p:cNvSpPr/>
              <p:nvPr/>
            </p:nvSpPr>
            <p:spPr>
              <a:xfrm>
                <a:off x="5737320" y="3065400"/>
                <a:ext cx="355320" cy="6156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47"/>
              <p:cNvSpPr/>
              <p:nvPr/>
            </p:nvSpPr>
            <p:spPr>
              <a:xfrm>
                <a:off x="5291280" y="3107520"/>
                <a:ext cx="127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Observador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4"/>
              <p:cNvSpPr/>
              <p:nvPr/>
            </p:nvSpPr>
            <p:spPr>
              <a:xfrm>
                <a:off x="5764320" y="4151520"/>
                <a:ext cx="293400" cy="29196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45"/>
              <p:cNvSpPr/>
              <p:nvPr/>
            </p:nvSpPr>
            <p:spPr>
              <a:xfrm>
                <a:off x="5639040" y="4449960"/>
                <a:ext cx="544320" cy="6238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46"/>
              <p:cNvSpPr/>
              <p:nvPr/>
            </p:nvSpPr>
            <p:spPr>
              <a:xfrm>
                <a:off x="5737320" y="5083200"/>
                <a:ext cx="355680" cy="61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Box 47"/>
              <p:cNvSpPr/>
              <p:nvPr/>
            </p:nvSpPr>
            <p:spPr>
              <a:xfrm>
                <a:off x="5291280" y="5082120"/>
                <a:ext cx="127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Observador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Straight Connector 36"/>
              <p:cNvSpPr/>
              <p:nvPr/>
            </p:nvSpPr>
            <p:spPr>
              <a:xfrm>
                <a:off x="3647880" y="2342160"/>
                <a:ext cx="903960" cy="556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Straight Connector 39"/>
              <p:cNvSpPr/>
              <p:nvPr/>
            </p:nvSpPr>
            <p:spPr>
              <a:xfrm>
                <a:off x="3578400" y="2412000"/>
                <a:ext cx="625680" cy="834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43"/>
              <p:cNvSpPr/>
              <p:nvPr/>
            </p:nvSpPr>
            <p:spPr>
              <a:xfrm flipH="1">
                <a:off x="4760280" y="2341440"/>
                <a:ext cx="903960" cy="6260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47"/>
              <p:cNvSpPr/>
              <p:nvPr/>
            </p:nvSpPr>
            <p:spPr>
              <a:xfrm flipH="1">
                <a:off x="5038920" y="2412000"/>
                <a:ext cx="625680" cy="904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50"/>
              <p:cNvSpPr/>
              <p:nvPr/>
            </p:nvSpPr>
            <p:spPr>
              <a:xfrm flipH="1" flipV="1">
                <a:off x="5108400" y="3664440"/>
                <a:ext cx="625680" cy="4867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Straight Connector 53"/>
              <p:cNvSpPr/>
              <p:nvPr/>
            </p:nvSpPr>
            <p:spPr>
              <a:xfrm flipH="1">
                <a:off x="4899600" y="4290480"/>
                <a:ext cx="7650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Straight Connector 56"/>
              <p:cNvSpPr/>
              <p:nvPr/>
            </p:nvSpPr>
            <p:spPr>
              <a:xfrm flipH="1">
                <a:off x="3578040" y="3594600"/>
                <a:ext cx="556200" cy="556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Straight Connector 59"/>
              <p:cNvSpPr/>
              <p:nvPr/>
            </p:nvSpPr>
            <p:spPr>
              <a:xfrm>
                <a:off x="3647880" y="4290480"/>
                <a:ext cx="6256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Coaching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14240" y="3047760"/>
            <a:ext cx="396396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es Coa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Coaching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000" y="15984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no es Coa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492200" y="2752560"/>
            <a:ext cx="6337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6666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os hablan d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6666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6666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os lo confunden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to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o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apia: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147480" y="42782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ntor comparte exper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06640" y="494028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erto identifica y resuelv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856240" y="5597640"/>
            <a:ext cx="60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erapeuta ayuda a salir de un problema psic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6 Grupo"/>
          <p:cNvGrpSpPr/>
          <p:nvPr/>
        </p:nvGrpSpPr>
        <p:grpSpPr>
          <a:xfrm>
            <a:off x="5257800" y="685800"/>
            <a:ext cx="3200400" cy="3141720"/>
            <a:chOff x="5257800" y="685800"/>
            <a:chExt cx="3200400" cy="3141720"/>
          </a:xfrm>
        </p:grpSpPr>
        <p:sp>
          <p:nvSpPr>
            <p:cNvPr id="103" name="TextBox 47"/>
            <p:cNvSpPr/>
            <p:nvPr/>
          </p:nvSpPr>
          <p:spPr>
            <a:xfrm>
              <a:off x="6087600" y="341280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ad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45 Grupo"/>
            <p:cNvGrpSpPr/>
            <p:nvPr/>
          </p:nvGrpSpPr>
          <p:grpSpPr>
            <a:xfrm>
              <a:off x="5257800" y="685800"/>
              <a:ext cx="3200400" cy="3141720"/>
              <a:chOff x="5257800" y="685800"/>
              <a:chExt cx="3200400" cy="3141720"/>
            </a:xfrm>
          </p:grpSpPr>
          <p:sp>
            <p:nvSpPr>
              <p:cNvPr id="105" name="19 Circular"/>
              <p:cNvSpPr/>
              <p:nvPr/>
            </p:nvSpPr>
            <p:spPr>
              <a:xfrm>
                <a:off x="5257800" y="685800"/>
                <a:ext cx="3200400" cy="3141720"/>
              </a:xfrm>
              <a:custGeom>
                <a:avLst/>
                <a:gdLst/>
                <a:ahLst/>
                <a:rect l="l" t="t" r="r" b="b"/>
                <a:pathLst>
                  <a:path w="2971800" h="2971800">
                    <a:moveTo>
                      <a:pt x="142805" y="2121506"/>
                    </a:moveTo>
                    <a:cubicBezTo>
                      <a:pt x="-147079" y="1508953"/>
                      <a:pt x="14220" y="777866"/>
                      <a:pt x="534942" y="344157"/>
                    </a:cubicBezTo>
                    <a:cubicBezTo>
                      <a:pt x="1055663" y="-89552"/>
                      <a:pt x="1803865" y="-115990"/>
                      <a:pt x="2353900" y="279884"/>
                    </a:cubicBezTo>
                    <a:lnTo>
                      <a:pt x="1485900" y="1485900"/>
                    </a:lnTo>
                    <a:lnTo>
                      <a:pt x="142805" y="212150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20 Circular"/>
              <p:cNvSpPr/>
              <p:nvPr/>
            </p:nvSpPr>
            <p:spPr>
              <a:xfrm>
                <a:off x="5257800" y="685800"/>
                <a:ext cx="3200400" cy="3141720"/>
              </a:xfrm>
              <a:custGeom>
                <a:avLst/>
                <a:gdLst/>
                <a:ahLst/>
                <a:rect l="l" t="t" r="r" b="b"/>
                <a:pathLst>
                  <a:path w="2971800" h="2971800">
                    <a:moveTo>
                      <a:pt x="2332390" y="264690"/>
                    </a:moveTo>
                    <a:cubicBezTo>
                      <a:pt x="3001310" y="728356"/>
                      <a:pt x="3172726" y="1643878"/>
                      <a:pt x="2716864" y="2318142"/>
                    </a:cubicBezTo>
                    <a:lnTo>
                      <a:pt x="1485900" y="1485900"/>
                    </a:lnTo>
                    <a:lnTo>
                      <a:pt x="2332390" y="264690"/>
                    </a:lnTo>
                    <a:close/>
                  </a:path>
                </a:pathLst>
              </a:custGeom>
              <a:solidFill>
                <a:srgbClr val="d5e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22 Grupo"/>
            <p:cNvGrpSpPr/>
            <p:nvPr/>
          </p:nvGrpSpPr>
          <p:grpSpPr>
            <a:xfrm>
              <a:off x="6383880" y="2108520"/>
              <a:ext cx="692640" cy="1270080"/>
              <a:chOff x="6383880" y="2108520"/>
              <a:chExt cx="692640" cy="1270080"/>
            </a:xfrm>
          </p:grpSpPr>
          <p:sp>
            <p:nvSpPr>
              <p:cNvPr id="108" name="Oval 77"/>
              <p:cNvSpPr/>
              <p:nvPr/>
            </p:nvSpPr>
            <p:spPr>
              <a:xfrm>
                <a:off x="6543720" y="2108520"/>
                <a:ext cx="372960" cy="374400"/>
              </a:xfrm>
              <a:prstGeom prst="ellipse">
                <a:avLst/>
              </a:prstGeom>
              <a:solidFill>
                <a:srgbClr val="b32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78"/>
              <p:cNvSpPr/>
              <p:nvPr/>
            </p:nvSpPr>
            <p:spPr>
              <a:xfrm>
                <a:off x="6383880" y="2490480"/>
                <a:ext cx="692640" cy="801000"/>
              </a:xfrm>
              <a:prstGeom prst="ellipse">
                <a:avLst/>
              </a:prstGeom>
              <a:solidFill>
                <a:srgbClr val="b32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79"/>
              <p:cNvSpPr/>
              <p:nvPr/>
            </p:nvSpPr>
            <p:spPr>
              <a:xfrm>
                <a:off x="6509160" y="3299040"/>
                <a:ext cx="453240" cy="795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43 CuadroTexto"/>
            <p:cNvSpPr/>
            <p:nvPr/>
          </p:nvSpPr>
          <p:spPr>
            <a:xfrm>
              <a:off x="5777280" y="15750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Área ci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44 CuadroTexto"/>
            <p:cNvSpPr/>
            <p:nvPr/>
          </p:nvSpPr>
          <p:spPr>
            <a:xfrm>
              <a:off x="7213680" y="1811880"/>
              <a:ext cx="1244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Posibilidades de observación y 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1 Rectángulo redondeado"/>
          <p:cNvSpPr/>
          <p:nvPr/>
        </p:nvSpPr>
        <p:spPr>
          <a:xfrm>
            <a:off x="762120" y="4038480"/>
            <a:ext cx="5181480" cy="2210040"/>
          </a:xfrm>
          <a:prstGeom prst="roundRect">
            <a:avLst>
              <a:gd name="adj" fmla="val 13162"/>
            </a:avLst>
          </a:prstGeom>
          <a:noFill/>
          <a:ln w="9360">
            <a:solidFill>
              <a:srgbClr val="203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Redondear rectángulo de esquina del mismo lado"/>
          <p:cNvSpPr/>
          <p:nvPr/>
        </p:nvSpPr>
        <p:spPr>
          <a:xfrm flipV="1">
            <a:off x="762120" y="4494960"/>
            <a:ext cx="5181480" cy="1752840"/>
          </a:xfrm>
          <a:custGeom>
            <a:avLst/>
            <a:gdLst/>
            <a:ahLst/>
            <a:rect l="l" t="t" r="r" b="b"/>
            <a:pathLst>
              <a:path w="5181600" h="1752600">
                <a:moveTo>
                  <a:pt x="247502" y="0"/>
                </a:moveTo>
                <a:lnTo>
                  <a:pt x="4934098" y="0"/>
                </a:lnTo>
                <a:cubicBezTo>
                  <a:pt x="5070790" y="0"/>
                  <a:pt x="5181600" y="110810"/>
                  <a:pt x="5181600" y="247502"/>
                </a:cubicBezTo>
                <a:lnTo>
                  <a:pt x="5181600" y="1752600"/>
                </a:lnTo>
                <a:lnTo>
                  <a:pt x="5181600" y="1752600"/>
                </a:lnTo>
                <a:lnTo>
                  <a:pt x="0" y="1752600"/>
                </a:lnTo>
                <a:lnTo>
                  <a:pt x="0" y="1752600"/>
                </a:lnTo>
                <a:lnTo>
                  <a:pt x="0" y="247502"/>
                </a:lnTo>
                <a:cubicBezTo>
                  <a:pt x="0" y="110810"/>
                  <a:pt x="110810" y="0"/>
                  <a:pt x="247502" y="0"/>
                </a:cubicBezTo>
                <a:close/>
              </a:path>
            </a:pathLst>
          </a:custGeom>
          <a:solidFill>
            <a:srgbClr val="203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Coaching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roceso mediante el cual un coach ayuda a otra persona a convertirse en un observador distinto de sí mismo, de sus acciones y las de los demás, para desarrollar su potencial y mejorar la efectividad personal y grupal en los ámbitos humano y labo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0 CuadroTexto"/>
          <p:cNvSpPr/>
          <p:nvPr/>
        </p:nvSpPr>
        <p:spPr>
          <a:xfrm>
            <a:off x="924120" y="407664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0368c"/>
                </a:solidFill>
                <a:latin typeface="Arial"/>
              </a:rPr>
              <a:t>Coaching Du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46 Grupo"/>
          <p:cNvGrpSpPr/>
          <p:nvPr/>
        </p:nvGrpSpPr>
        <p:grpSpPr>
          <a:xfrm>
            <a:off x="5257800" y="685800"/>
            <a:ext cx="3200400" cy="3141720"/>
            <a:chOff x="5257800" y="685800"/>
            <a:chExt cx="3200400" cy="3141720"/>
          </a:xfrm>
        </p:grpSpPr>
        <p:sp>
          <p:nvSpPr>
            <p:cNvPr id="119" name="TextBox 47"/>
            <p:cNvSpPr/>
            <p:nvPr/>
          </p:nvSpPr>
          <p:spPr>
            <a:xfrm>
              <a:off x="6087600" y="341280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bservad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45 Grupo"/>
            <p:cNvGrpSpPr/>
            <p:nvPr/>
          </p:nvGrpSpPr>
          <p:grpSpPr>
            <a:xfrm>
              <a:off x="5257800" y="685800"/>
              <a:ext cx="3200400" cy="3141720"/>
              <a:chOff x="5257800" y="685800"/>
              <a:chExt cx="3200400" cy="3141720"/>
            </a:xfrm>
          </p:grpSpPr>
          <p:sp>
            <p:nvSpPr>
              <p:cNvPr id="121" name="19 Circular"/>
              <p:cNvSpPr/>
              <p:nvPr/>
            </p:nvSpPr>
            <p:spPr>
              <a:xfrm>
                <a:off x="5257800" y="685800"/>
                <a:ext cx="3200400" cy="3141720"/>
              </a:xfrm>
              <a:custGeom>
                <a:avLst/>
                <a:gdLst/>
                <a:ahLst/>
                <a:rect l="l" t="t" r="r" b="b"/>
                <a:pathLst>
                  <a:path w="2971800" h="2971800">
                    <a:moveTo>
                      <a:pt x="142805" y="2121506"/>
                    </a:moveTo>
                    <a:cubicBezTo>
                      <a:pt x="-147079" y="1508953"/>
                      <a:pt x="14220" y="777866"/>
                      <a:pt x="534942" y="344157"/>
                    </a:cubicBezTo>
                    <a:cubicBezTo>
                      <a:pt x="1055663" y="-89552"/>
                      <a:pt x="1803865" y="-115990"/>
                      <a:pt x="2353900" y="279884"/>
                    </a:cubicBezTo>
                    <a:lnTo>
                      <a:pt x="1485900" y="1485900"/>
                    </a:lnTo>
                    <a:lnTo>
                      <a:pt x="142805" y="212150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20 Circular"/>
              <p:cNvSpPr/>
              <p:nvPr/>
            </p:nvSpPr>
            <p:spPr>
              <a:xfrm>
                <a:off x="5257800" y="685800"/>
                <a:ext cx="3200400" cy="3141720"/>
              </a:xfrm>
              <a:custGeom>
                <a:avLst/>
                <a:gdLst/>
                <a:ahLst/>
                <a:rect l="l" t="t" r="r" b="b"/>
                <a:pathLst>
                  <a:path w="2971800" h="2971800">
                    <a:moveTo>
                      <a:pt x="2332390" y="264690"/>
                    </a:moveTo>
                    <a:cubicBezTo>
                      <a:pt x="3001310" y="728356"/>
                      <a:pt x="3172726" y="1643878"/>
                      <a:pt x="2716864" y="2318142"/>
                    </a:cubicBezTo>
                    <a:lnTo>
                      <a:pt x="1485900" y="1485900"/>
                    </a:lnTo>
                    <a:lnTo>
                      <a:pt x="2332390" y="264690"/>
                    </a:lnTo>
                    <a:close/>
                  </a:path>
                </a:pathLst>
              </a:custGeom>
              <a:solidFill>
                <a:srgbClr val="d5e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22 Grupo"/>
            <p:cNvGrpSpPr/>
            <p:nvPr/>
          </p:nvGrpSpPr>
          <p:grpSpPr>
            <a:xfrm>
              <a:off x="6383880" y="2108520"/>
              <a:ext cx="692640" cy="1270080"/>
              <a:chOff x="6383880" y="2108520"/>
              <a:chExt cx="692640" cy="1270080"/>
            </a:xfrm>
          </p:grpSpPr>
          <p:sp>
            <p:nvSpPr>
              <p:cNvPr id="124" name="Oval 77"/>
              <p:cNvSpPr/>
              <p:nvPr/>
            </p:nvSpPr>
            <p:spPr>
              <a:xfrm>
                <a:off x="6543720" y="2108520"/>
                <a:ext cx="372960" cy="374400"/>
              </a:xfrm>
              <a:prstGeom prst="ellipse">
                <a:avLst/>
              </a:prstGeom>
              <a:solidFill>
                <a:srgbClr val="b32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78"/>
              <p:cNvSpPr/>
              <p:nvPr/>
            </p:nvSpPr>
            <p:spPr>
              <a:xfrm>
                <a:off x="6383880" y="2490480"/>
                <a:ext cx="692640" cy="801000"/>
              </a:xfrm>
              <a:prstGeom prst="ellipse">
                <a:avLst/>
              </a:prstGeom>
              <a:solidFill>
                <a:srgbClr val="b32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79"/>
              <p:cNvSpPr/>
              <p:nvPr/>
            </p:nvSpPr>
            <p:spPr>
              <a:xfrm>
                <a:off x="6509160" y="3299040"/>
                <a:ext cx="453240" cy="795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43 CuadroTexto"/>
            <p:cNvSpPr/>
            <p:nvPr/>
          </p:nvSpPr>
          <p:spPr>
            <a:xfrm>
              <a:off x="5777280" y="15750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Área ci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44 CuadroTexto"/>
            <p:cNvSpPr/>
            <p:nvPr/>
          </p:nvSpPr>
          <p:spPr>
            <a:xfrm>
              <a:off x="7213680" y="1811880"/>
              <a:ext cx="1244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Posibilidades de observación y 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Por qué del Coaching Ejecutivo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grpSp>
        <p:nvGrpSpPr>
          <p:cNvPr id="130" name="105 Grupo"/>
          <p:cNvGrpSpPr/>
          <p:nvPr/>
        </p:nvGrpSpPr>
        <p:grpSpPr>
          <a:xfrm>
            <a:off x="838080" y="1905120"/>
            <a:ext cx="7775640" cy="3733560"/>
            <a:chOff x="838080" y="1905120"/>
            <a:chExt cx="7775640" cy="3733560"/>
          </a:xfrm>
        </p:grpSpPr>
        <p:sp>
          <p:nvSpPr>
            <p:cNvPr id="131" name="13 Rectángulo redondeado"/>
            <p:cNvSpPr/>
            <p:nvPr/>
          </p:nvSpPr>
          <p:spPr>
            <a:xfrm>
              <a:off x="4137120" y="510552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00a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Competencias téctn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14 Rectángulo redondeado"/>
            <p:cNvSpPr/>
            <p:nvPr/>
          </p:nvSpPr>
          <p:spPr>
            <a:xfrm>
              <a:off x="5497560" y="509436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Competencias administra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15 Rectángulo redondeado"/>
            <p:cNvSpPr/>
            <p:nvPr/>
          </p:nvSpPr>
          <p:spPr>
            <a:xfrm>
              <a:off x="6867720" y="5095800"/>
              <a:ext cx="1523880" cy="533160"/>
            </a:xfrm>
            <a:prstGeom prst="roundRect">
              <a:avLst>
                <a:gd name="adj" fmla="val 16667"/>
              </a:avLst>
            </a:prstGeom>
            <a:solidFill>
              <a:srgbClr val="b32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ffff"/>
                  </a:solidFill>
                  <a:latin typeface="Arial"/>
                </a:rPr>
                <a:t>Competencias procesos human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8"/>
            <p:cNvSpPr/>
            <p:nvPr/>
          </p:nvSpPr>
          <p:spPr>
            <a:xfrm flipH="1">
              <a:off x="5243040" y="2286000"/>
              <a:ext cx="14040" cy="27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13"/>
            <p:cNvSpPr/>
            <p:nvPr/>
          </p:nvSpPr>
          <p:spPr>
            <a:xfrm flipH="1">
              <a:off x="6386400" y="2286000"/>
              <a:ext cx="14040" cy="27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4"/>
            <p:cNvSpPr/>
            <p:nvPr/>
          </p:nvSpPr>
          <p:spPr>
            <a:xfrm flipH="1">
              <a:off x="7605360" y="2286000"/>
              <a:ext cx="14040" cy="27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5"/>
            <p:cNvSpPr/>
            <p:nvPr/>
          </p:nvSpPr>
          <p:spPr>
            <a:xfrm>
              <a:off x="3970800" y="19051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6"/>
            <p:cNvSpPr/>
            <p:nvPr/>
          </p:nvSpPr>
          <p:spPr>
            <a:xfrm>
              <a:off x="5238720" y="190512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Je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7"/>
            <p:cNvSpPr/>
            <p:nvPr/>
          </p:nvSpPr>
          <p:spPr>
            <a:xfrm>
              <a:off x="6510240" y="19051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er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8"/>
            <p:cNvSpPr/>
            <p:nvPr/>
          </p:nvSpPr>
          <p:spPr>
            <a:xfrm>
              <a:off x="7634520" y="190512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4106880" y="2511360"/>
              <a:ext cx="4461120" cy="1603080"/>
            </a:xfrm>
            <a:custGeom>
              <a:avLst/>
              <a:gdLst>
                <a:gd name="textAreaLeft" fmla="*/ 0 w 4461120"/>
                <a:gd name="textAreaRight" fmla="*/ 4461480 w 4461120"/>
                <a:gd name="textAreaTop" fmla="*/ 0 h 1603080"/>
                <a:gd name="textAreaBottom" fmla="*/ 1603440 h 1603080"/>
              </a:gdLst>
              <a:ahLst/>
              <a:rect l="textAreaLeft" t="textAreaTop" r="textAreaRight" b="textAreaBottom"/>
              <a:pathLst>
                <a:path w="4289778" h="1580444">
                  <a:moveTo>
                    <a:pt x="0" y="0"/>
                  </a:moveTo>
                  <a:cubicBezTo>
                    <a:pt x="386879" y="154046"/>
                    <a:pt x="773759" y="308093"/>
                    <a:pt x="1157111" y="522111"/>
                  </a:cubicBezTo>
                  <a:cubicBezTo>
                    <a:pt x="1540463" y="736129"/>
                    <a:pt x="1907352" y="1117129"/>
                    <a:pt x="2300111" y="1284111"/>
                  </a:cubicBezTo>
                  <a:cubicBezTo>
                    <a:pt x="2692870" y="1451093"/>
                    <a:pt x="3182056" y="1474611"/>
                    <a:pt x="3513667" y="1524000"/>
                  </a:cubicBezTo>
                  <a:cubicBezTo>
                    <a:pt x="3845278" y="1573389"/>
                    <a:pt x="4289778" y="1580444"/>
                    <a:pt x="4289778" y="1580444"/>
                  </a:cubicBezTo>
                </a:path>
              </a:pathLst>
            </a:custGeom>
            <a:noFill/>
            <a:ln w="28440">
              <a:solidFill>
                <a:srgbClr val="00ae4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4133880" y="2492280"/>
              <a:ext cx="4375440" cy="1473120"/>
            </a:xfrm>
            <a:custGeom>
              <a:avLst/>
              <a:gdLst>
                <a:gd name="textAreaLeft" fmla="*/ 0 w 4375440"/>
                <a:gd name="textAreaRight" fmla="*/ 4375800 w 437544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4374444" h="1472259">
                  <a:moveTo>
                    <a:pt x="0" y="1472259"/>
                  </a:moveTo>
                  <a:cubicBezTo>
                    <a:pt x="846666" y="1005416"/>
                    <a:pt x="1693333" y="538574"/>
                    <a:pt x="2271888" y="301037"/>
                  </a:cubicBezTo>
                  <a:cubicBezTo>
                    <a:pt x="2850443" y="63500"/>
                    <a:pt x="3120907" y="94074"/>
                    <a:pt x="3471333" y="47037"/>
                  </a:cubicBezTo>
                  <a:cubicBezTo>
                    <a:pt x="3821759" y="0"/>
                    <a:pt x="4098101" y="9407"/>
                    <a:pt x="4374444" y="18815"/>
                  </a:cubicBezTo>
                </a:path>
              </a:pathLst>
            </a:custGeom>
            <a:noFill/>
            <a:ln w="28440">
              <a:solidFill>
                <a:srgbClr val="cb0c0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1"/>
            <p:cNvSpPr/>
            <p:nvPr/>
          </p:nvSpPr>
          <p:spPr>
            <a:xfrm>
              <a:off x="4146480" y="2851200"/>
              <a:ext cx="4373640" cy="1473120"/>
            </a:xfrm>
            <a:custGeom>
              <a:avLst/>
              <a:gdLst>
                <a:gd name="textAreaLeft" fmla="*/ 0 w 4373640"/>
                <a:gd name="textAreaRight" fmla="*/ 4374000 w 437364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4374444" h="1472259">
                  <a:moveTo>
                    <a:pt x="0" y="1472259"/>
                  </a:moveTo>
                  <a:cubicBezTo>
                    <a:pt x="846666" y="1005416"/>
                    <a:pt x="1693333" y="538574"/>
                    <a:pt x="2271888" y="301037"/>
                  </a:cubicBezTo>
                  <a:cubicBezTo>
                    <a:pt x="2850443" y="63500"/>
                    <a:pt x="3120907" y="94074"/>
                    <a:pt x="3471333" y="47037"/>
                  </a:cubicBezTo>
                  <a:cubicBezTo>
                    <a:pt x="3821759" y="0"/>
                    <a:pt x="4098101" y="9407"/>
                    <a:pt x="4374444" y="18815"/>
                  </a:cubicBezTo>
                </a:path>
              </a:pathLst>
            </a:custGeom>
            <a:noFill/>
            <a:ln w="28440">
              <a:solidFill>
                <a:srgbClr val="009e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232"/>
            <p:cNvGrpSpPr/>
            <p:nvPr/>
          </p:nvGrpSpPr>
          <p:grpSpPr>
            <a:xfrm>
              <a:off x="838080" y="2286000"/>
              <a:ext cx="2590920" cy="2590560"/>
              <a:chOff x="838080" y="2286000"/>
              <a:chExt cx="2590920" cy="2590560"/>
            </a:xfrm>
          </p:grpSpPr>
          <p:sp>
            <p:nvSpPr>
              <p:cNvPr id="145" name="Rounded Rectangle 32"/>
              <p:cNvSpPr/>
              <p:nvPr/>
            </p:nvSpPr>
            <p:spPr>
              <a:xfrm>
                <a:off x="1549080" y="2286000"/>
                <a:ext cx="152280" cy="22860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228600"/>
                  <a:gd name="textAreaBottom" fmla="*/ 221400 h 22860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3600" y="0"/>
                    </a:moveTo>
                    <a:arcTo wR="3600" hR="3600" stAng="16200000" swAng="-5400000"/>
                    <a:lnTo>
                      <a:pt x="0" y="28800"/>
                    </a:lnTo>
                    <a:arcTo wR="3600" hR="3600" stAng="10800000" swAng="-5400000"/>
                    <a:lnTo>
                      <a:pt x="18000" y="324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ounded Rectangle 38"/>
              <p:cNvSpPr/>
              <p:nvPr/>
            </p:nvSpPr>
            <p:spPr>
              <a:xfrm>
                <a:off x="1430640" y="2590560"/>
                <a:ext cx="152280" cy="22860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228600"/>
                  <a:gd name="textAreaBottom" fmla="*/ 221400 h 22860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3600" y="0"/>
                    </a:moveTo>
                    <a:arcTo wR="3600" hR="3600" stAng="16200000" swAng="-5400000"/>
                    <a:lnTo>
                      <a:pt x="0" y="28800"/>
                    </a:lnTo>
                    <a:arcTo wR="3600" hR="3600" stAng="10800000" swAng="-5400000"/>
                    <a:lnTo>
                      <a:pt x="18000" y="324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ounded Rectangle 39"/>
              <p:cNvSpPr/>
              <p:nvPr/>
            </p:nvSpPr>
            <p:spPr>
              <a:xfrm>
                <a:off x="1667880" y="2590560"/>
                <a:ext cx="152280" cy="22860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228600"/>
                  <a:gd name="textAreaBottom" fmla="*/ 221400 h 22860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3600" y="0"/>
                    </a:moveTo>
                    <a:arcTo wR="3600" hR="3600" stAng="16200000" swAng="-5400000"/>
                    <a:lnTo>
                      <a:pt x="0" y="28800"/>
                    </a:lnTo>
                    <a:arcTo wR="3600" hR="3600" stAng="10800000" swAng="-5400000"/>
                    <a:lnTo>
                      <a:pt x="18000" y="324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ounded Rectangle 40"/>
              <p:cNvSpPr/>
              <p:nvPr/>
            </p:nvSpPr>
            <p:spPr>
              <a:xfrm>
                <a:off x="1653840" y="2867400"/>
                <a:ext cx="124200" cy="228600"/>
              </a:xfrm>
              <a:custGeom>
                <a:avLst/>
                <a:gdLst>
                  <a:gd name="textAreaLeft" fmla="*/ 5760 w 124200"/>
                  <a:gd name="textAreaRight" fmla="*/ 118440 w 124200"/>
                  <a:gd name="textAreaTop" fmla="*/ 5760 h 228600"/>
                  <a:gd name="textAreaBottom" fmla="*/ 222840 h 228600"/>
                </a:gdLst>
                <a:ahLst/>
                <a:rect l="textAreaLeft" t="textAreaTop" r="textAreaRight" b="textAreaBottom"/>
                <a:pathLst>
                  <a:path w="21600" h="39704">
                    <a:moveTo>
                      <a:pt x="3600" y="0"/>
                    </a:moveTo>
                    <a:arcTo wR="3600" hR="3600" stAng="16200000" swAng="-5400000"/>
                    <a:lnTo>
                      <a:pt x="0" y="36104"/>
                    </a:lnTo>
                    <a:arcTo wR="3600" hR="3600" stAng="10800000" swAng="-5400000"/>
                    <a:lnTo>
                      <a:pt x="18000" y="397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ounded Rectangle 41"/>
              <p:cNvSpPr/>
              <p:nvPr/>
            </p:nvSpPr>
            <p:spPr>
              <a:xfrm>
                <a:off x="1806120" y="2867400"/>
                <a:ext cx="124200" cy="228600"/>
              </a:xfrm>
              <a:custGeom>
                <a:avLst/>
                <a:gdLst>
                  <a:gd name="textAreaLeft" fmla="*/ 5760 w 124200"/>
                  <a:gd name="textAreaRight" fmla="*/ 118440 w 124200"/>
                  <a:gd name="textAreaTop" fmla="*/ 5760 h 228600"/>
                  <a:gd name="textAreaBottom" fmla="*/ 222840 h 228600"/>
                </a:gdLst>
                <a:ahLst/>
                <a:rect l="textAreaLeft" t="textAreaTop" r="textAreaRight" b="textAreaBottom"/>
                <a:pathLst>
                  <a:path w="21600" h="39704">
                    <a:moveTo>
                      <a:pt x="3600" y="0"/>
                    </a:moveTo>
                    <a:arcTo wR="3600" hR="3600" stAng="16200000" swAng="-5400000"/>
                    <a:lnTo>
                      <a:pt x="0" y="36104"/>
                    </a:lnTo>
                    <a:arcTo wR="3600" hR="3600" stAng="10800000" swAng="-5400000"/>
                    <a:lnTo>
                      <a:pt x="18000" y="397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ounded Rectangle 42"/>
              <p:cNvSpPr/>
              <p:nvPr/>
            </p:nvSpPr>
            <p:spPr>
              <a:xfrm>
                <a:off x="1958400" y="2867400"/>
                <a:ext cx="124200" cy="228600"/>
              </a:xfrm>
              <a:custGeom>
                <a:avLst/>
                <a:gdLst>
                  <a:gd name="textAreaLeft" fmla="*/ 5760 w 124200"/>
                  <a:gd name="textAreaRight" fmla="*/ 118440 w 124200"/>
                  <a:gd name="textAreaTop" fmla="*/ 5760 h 228600"/>
                  <a:gd name="textAreaBottom" fmla="*/ 222840 h 228600"/>
                </a:gdLst>
                <a:ahLst/>
                <a:rect l="textAreaLeft" t="textAreaTop" r="textAreaRight" b="textAreaBottom"/>
                <a:pathLst>
                  <a:path w="21600" h="39704">
                    <a:moveTo>
                      <a:pt x="3600" y="0"/>
                    </a:moveTo>
                    <a:arcTo wR="3600" hR="3600" stAng="16200000" swAng="-5400000"/>
                    <a:lnTo>
                      <a:pt x="0" y="36104"/>
                    </a:lnTo>
                    <a:arcTo wR="3600" hR="3600" stAng="10800000" swAng="-5400000"/>
                    <a:lnTo>
                      <a:pt x="18000" y="397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ounded Rectangle 43"/>
              <p:cNvSpPr/>
              <p:nvPr/>
            </p:nvSpPr>
            <p:spPr>
              <a:xfrm>
                <a:off x="1168200" y="2867400"/>
                <a:ext cx="124200" cy="228600"/>
              </a:xfrm>
              <a:custGeom>
                <a:avLst/>
                <a:gdLst>
                  <a:gd name="textAreaLeft" fmla="*/ 5760 w 124200"/>
                  <a:gd name="textAreaRight" fmla="*/ 118440 w 124200"/>
                  <a:gd name="textAreaTop" fmla="*/ 5760 h 228600"/>
                  <a:gd name="textAreaBottom" fmla="*/ 222840 h 228600"/>
                </a:gdLst>
                <a:ahLst/>
                <a:rect l="textAreaLeft" t="textAreaTop" r="textAreaRight" b="textAreaBottom"/>
                <a:pathLst>
                  <a:path w="21600" h="39704">
                    <a:moveTo>
                      <a:pt x="3600" y="0"/>
                    </a:moveTo>
                    <a:arcTo wR="3600" hR="3600" stAng="16200000" swAng="-5400000"/>
                    <a:lnTo>
                      <a:pt x="0" y="36104"/>
                    </a:lnTo>
                    <a:arcTo wR="3600" hR="3600" stAng="10800000" swAng="-5400000"/>
                    <a:lnTo>
                      <a:pt x="18000" y="397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ounded Rectangle 44"/>
              <p:cNvSpPr/>
              <p:nvPr/>
            </p:nvSpPr>
            <p:spPr>
              <a:xfrm>
                <a:off x="1320480" y="2867400"/>
                <a:ext cx="124200" cy="228600"/>
              </a:xfrm>
              <a:custGeom>
                <a:avLst/>
                <a:gdLst>
                  <a:gd name="textAreaLeft" fmla="*/ 5760 w 124200"/>
                  <a:gd name="textAreaRight" fmla="*/ 118440 w 124200"/>
                  <a:gd name="textAreaTop" fmla="*/ 5760 h 228600"/>
                  <a:gd name="textAreaBottom" fmla="*/ 222840 h 228600"/>
                </a:gdLst>
                <a:ahLst/>
                <a:rect l="textAreaLeft" t="textAreaTop" r="textAreaRight" b="textAreaBottom"/>
                <a:pathLst>
                  <a:path w="21600" h="39704">
                    <a:moveTo>
                      <a:pt x="3600" y="0"/>
                    </a:moveTo>
                    <a:arcTo wR="3600" hR="3600" stAng="16200000" swAng="-5400000"/>
                    <a:lnTo>
                      <a:pt x="0" y="36104"/>
                    </a:lnTo>
                    <a:arcTo wR="3600" hR="3600" stAng="10800000" swAng="-5400000"/>
                    <a:lnTo>
                      <a:pt x="18000" y="397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ounded Rectangle 45"/>
              <p:cNvSpPr/>
              <p:nvPr/>
            </p:nvSpPr>
            <p:spPr>
              <a:xfrm>
                <a:off x="1473120" y="2867400"/>
                <a:ext cx="124200" cy="228600"/>
              </a:xfrm>
              <a:custGeom>
                <a:avLst/>
                <a:gdLst>
                  <a:gd name="textAreaLeft" fmla="*/ 5760 w 124200"/>
                  <a:gd name="textAreaRight" fmla="*/ 118440 w 124200"/>
                  <a:gd name="textAreaTop" fmla="*/ 5760 h 228600"/>
                  <a:gd name="textAreaBottom" fmla="*/ 222840 h 228600"/>
                </a:gdLst>
                <a:ahLst/>
                <a:rect l="textAreaLeft" t="textAreaTop" r="textAreaRight" b="textAreaBottom"/>
                <a:pathLst>
                  <a:path w="21600" h="39704">
                    <a:moveTo>
                      <a:pt x="3600" y="0"/>
                    </a:moveTo>
                    <a:arcTo wR="3600" hR="3600" stAng="16200000" swAng="-5400000"/>
                    <a:lnTo>
                      <a:pt x="0" y="36104"/>
                    </a:lnTo>
                    <a:arcTo wR="3600" hR="3600" stAng="10800000" swAng="-5400000"/>
                    <a:lnTo>
                      <a:pt x="18000" y="397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ounded Rectangle 46"/>
              <p:cNvSpPr/>
              <p:nvPr/>
            </p:nvSpPr>
            <p:spPr>
              <a:xfrm>
                <a:off x="165384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ounded Rectangle 47"/>
              <p:cNvSpPr/>
              <p:nvPr/>
            </p:nvSpPr>
            <p:spPr>
              <a:xfrm>
                <a:off x="176364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48"/>
              <p:cNvSpPr/>
              <p:nvPr/>
            </p:nvSpPr>
            <p:spPr>
              <a:xfrm>
                <a:off x="187380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ounded Rectangle 50"/>
              <p:cNvSpPr/>
              <p:nvPr/>
            </p:nvSpPr>
            <p:spPr>
              <a:xfrm>
                <a:off x="200664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ounded Rectangle 51"/>
              <p:cNvSpPr/>
              <p:nvPr/>
            </p:nvSpPr>
            <p:spPr>
              <a:xfrm>
                <a:off x="211644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52"/>
              <p:cNvSpPr/>
              <p:nvPr/>
            </p:nvSpPr>
            <p:spPr>
              <a:xfrm>
                <a:off x="222660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ounded Rectangle 54"/>
              <p:cNvSpPr/>
              <p:nvPr/>
            </p:nvSpPr>
            <p:spPr>
              <a:xfrm>
                <a:off x="95364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ounded Rectangle 55"/>
              <p:cNvSpPr/>
              <p:nvPr/>
            </p:nvSpPr>
            <p:spPr>
              <a:xfrm>
                <a:off x="106380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56"/>
              <p:cNvSpPr/>
              <p:nvPr/>
            </p:nvSpPr>
            <p:spPr>
              <a:xfrm>
                <a:off x="117396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ounded Rectangle 57"/>
              <p:cNvSpPr/>
              <p:nvPr/>
            </p:nvSpPr>
            <p:spPr>
              <a:xfrm>
                <a:off x="130644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ounded Rectangle 58"/>
              <p:cNvSpPr/>
              <p:nvPr/>
            </p:nvSpPr>
            <p:spPr>
              <a:xfrm>
                <a:off x="141660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59"/>
              <p:cNvSpPr/>
              <p:nvPr/>
            </p:nvSpPr>
            <p:spPr>
              <a:xfrm>
                <a:off x="1526760" y="3200400"/>
                <a:ext cx="75960" cy="22860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228600"/>
                  <a:gd name="textAreaBottom" fmla="*/ 225000 h 22860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3600" y="0"/>
                    </a:moveTo>
                    <a:arcTo wR="3600" hR="3600" stAng="16200000" swAng="-5400000"/>
                    <a:lnTo>
                      <a:pt x="0" y="61200"/>
                    </a:lnTo>
                    <a:arcTo wR="3600" hR="3600" stAng="10800000" swAng="-5400000"/>
                    <a:lnTo>
                      <a:pt x="18000" y="648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03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6" name="Elbow Connector 61"/>
              <p:cNvCxnSpPr>
                <a:stCxn id="145" idx="2"/>
                <a:endCxn id="147" idx="0"/>
              </p:cNvCxnSpPr>
              <p:nvPr/>
            </p:nvCxnSpPr>
            <p:spPr>
              <a:xfrm flipH="1" rot="16200000">
                <a:off x="1645560" y="2493000"/>
                <a:ext cx="76680" cy="119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67" name="Elbow Connector 63"/>
              <p:cNvCxnSpPr>
                <a:stCxn id="145" idx="2"/>
                <a:endCxn id="146" idx="0"/>
              </p:cNvCxnSpPr>
              <p:nvPr/>
            </p:nvCxnSpPr>
            <p:spPr>
              <a:xfrm rot="5400000">
                <a:off x="1527480" y="2493000"/>
                <a:ext cx="76680" cy="119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68" name="Elbow Connector 67"/>
              <p:cNvCxnSpPr>
                <a:stCxn id="147" idx="2"/>
                <a:endCxn id="150" idx="0"/>
              </p:cNvCxnSpPr>
              <p:nvPr/>
            </p:nvCxnSpPr>
            <p:spPr>
              <a:xfrm flipH="1" rot="16200000">
                <a:off x="1857960" y="2704320"/>
                <a:ext cx="48600" cy="2772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69" name="Elbow Connector 70"/>
              <p:cNvCxnSpPr>
                <a:stCxn id="147" idx="2"/>
                <a:endCxn id="149" idx="0"/>
              </p:cNvCxnSpPr>
              <p:nvPr/>
            </p:nvCxnSpPr>
            <p:spPr>
              <a:xfrm flipH="1" rot="16200000">
                <a:off x="1780920" y="2780640"/>
                <a:ext cx="48600" cy="124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0" name="Elbow Connector 73"/>
              <p:cNvCxnSpPr>
                <a:stCxn id="147" idx="2"/>
                <a:endCxn id="148" idx="0"/>
              </p:cNvCxnSpPr>
              <p:nvPr/>
            </p:nvCxnSpPr>
            <p:spPr>
              <a:xfrm rot="5400000">
                <a:off x="1705320" y="2828880"/>
                <a:ext cx="48600" cy="288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1" name="Elbow Connector 76"/>
              <p:cNvCxnSpPr>
                <a:stCxn id="146" idx="2"/>
                <a:endCxn id="153" idx="0"/>
              </p:cNvCxnSpPr>
              <p:nvPr/>
            </p:nvCxnSpPr>
            <p:spPr>
              <a:xfrm flipH="1" rot="16200000">
                <a:off x="1496880" y="2828520"/>
                <a:ext cx="48600" cy="288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2" name="Elbow Connector 79"/>
              <p:cNvCxnSpPr>
                <a:stCxn id="146" idx="2"/>
                <a:endCxn id="152" idx="0"/>
              </p:cNvCxnSpPr>
              <p:nvPr/>
            </p:nvCxnSpPr>
            <p:spPr>
              <a:xfrm rot="5400000">
                <a:off x="1420200" y="2780640"/>
                <a:ext cx="48600" cy="124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3" name="Elbow Connector 82"/>
              <p:cNvCxnSpPr>
                <a:stCxn id="146" idx="2"/>
                <a:endCxn id="151" idx="0"/>
              </p:cNvCxnSpPr>
              <p:nvPr/>
            </p:nvCxnSpPr>
            <p:spPr>
              <a:xfrm rot="5400000">
                <a:off x="1343880" y="2704680"/>
                <a:ext cx="48600" cy="2772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4" name="Elbow Connector 85"/>
              <p:cNvCxnSpPr>
                <a:stCxn id="148" idx="2"/>
                <a:endCxn id="154" idx="0"/>
              </p:cNvCxnSpPr>
              <p:nvPr/>
            </p:nvCxnSpPr>
            <p:spPr>
              <a:xfrm rot="5400000">
                <a:off x="1650600" y="3136320"/>
                <a:ext cx="105120" cy="2448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5" name="Elbow Connector 88"/>
              <p:cNvCxnSpPr>
                <a:stCxn id="148" idx="2"/>
                <a:endCxn id="155" idx="0"/>
              </p:cNvCxnSpPr>
              <p:nvPr/>
            </p:nvCxnSpPr>
            <p:spPr>
              <a:xfrm flipH="1" rot="16200000">
                <a:off x="1705680" y="3105000"/>
                <a:ext cx="105120" cy="8676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6" name="Elbow Connector 91"/>
              <p:cNvCxnSpPr>
                <a:stCxn id="148" idx="2"/>
                <a:endCxn id="156" idx="0"/>
              </p:cNvCxnSpPr>
              <p:nvPr/>
            </p:nvCxnSpPr>
            <p:spPr>
              <a:xfrm flipH="1" rot="16200000">
                <a:off x="1761480" y="3049920"/>
                <a:ext cx="105120" cy="19656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7" name="Elbow Connector 94"/>
              <p:cNvCxnSpPr>
                <a:stCxn id="150" idx="2"/>
                <a:endCxn id="157" idx="0"/>
              </p:cNvCxnSpPr>
              <p:nvPr/>
            </p:nvCxnSpPr>
            <p:spPr>
              <a:xfrm flipH="1" rot="16200000">
                <a:off x="1980360" y="3135960"/>
                <a:ext cx="105120" cy="2448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8" name="Elbow Connector 97"/>
              <p:cNvCxnSpPr>
                <a:stCxn id="150" idx="2"/>
                <a:endCxn id="158" idx="0"/>
              </p:cNvCxnSpPr>
              <p:nvPr/>
            </p:nvCxnSpPr>
            <p:spPr>
              <a:xfrm flipH="1" rot="16200000">
                <a:off x="2035440" y="3080880"/>
                <a:ext cx="105120" cy="13464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79" name="Elbow Connector 100"/>
              <p:cNvCxnSpPr>
                <a:stCxn id="150" idx="2"/>
                <a:endCxn id="159" idx="0"/>
              </p:cNvCxnSpPr>
              <p:nvPr/>
            </p:nvCxnSpPr>
            <p:spPr>
              <a:xfrm flipH="1" rot="16200000">
                <a:off x="2090520" y="3025800"/>
                <a:ext cx="105120" cy="24480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80" name="Elbow Connector 103"/>
              <p:cNvCxnSpPr>
                <a:stCxn id="153" idx="2"/>
                <a:endCxn id="165" idx="0"/>
              </p:cNvCxnSpPr>
              <p:nvPr/>
            </p:nvCxnSpPr>
            <p:spPr>
              <a:xfrm flipH="1" rot="16200000">
                <a:off x="1497600" y="3133080"/>
                <a:ext cx="105120" cy="3024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81" name="Elbow Connector 106"/>
              <p:cNvCxnSpPr>
                <a:stCxn id="153" idx="2"/>
                <a:endCxn id="164" idx="0"/>
              </p:cNvCxnSpPr>
              <p:nvPr/>
            </p:nvCxnSpPr>
            <p:spPr>
              <a:xfrm rot="5400000">
                <a:off x="1441800" y="3107880"/>
                <a:ext cx="105120" cy="8100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82" name="Elbow Connector 110"/>
              <p:cNvCxnSpPr>
                <a:stCxn id="153" idx="2"/>
                <a:endCxn id="163" idx="0"/>
              </p:cNvCxnSpPr>
              <p:nvPr/>
            </p:nvCxnSpPr>
            <p:spPr>
              <a:xfrm rot="5400000">
                <a:off x="1386720" y="3052800"/>
                <a:ext cx="105120" cy="19116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83" name="Elbow Connector 113"/>
              <p:cNvCxnSpPr>
                <a:stCxn id="151" idx="2"/>
                <a:endCxn id="162" idx="0"/>
              </p:cNvCxnSpPr>
              <p:nvPr/>
            </p:nvCxnSpPr>
            <p:spPr>
              <a:xfrm rot="5400000">
                <a:off x="1167840" y="3139200"/>
                <a:ext cx="105120" cy="1872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84" name="Elbow Connector 116"/>
              <p:cNvCxnSpPr>
                <a:stCxn id="151" idx="2"/>
                <a:endCxn id="161" idx="0"/>
              </p:cNvCxnSpPr>
              <p:nvPr/>
            </p:nvCxnSpPr>
            <p:spPr>
              <a:xfrm rot="5400000">
                <a:off x="1113120" y="3084120"/>
                <a:ext cx="105120" cy="12888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185" name="Elbow Connector 119"/>
              <p:cNvCxnSpPr>
                <a:stCxn id="151" idx="2"/>
                <a:endCxn id="160" idx="0"/>
              </p:cNvCxnSpPr>
              <p:nvPr/>
            </p:nvCxnSpPr>
            <p:spPr>
              <a:xfrm rot="5400000">
                <a:off x="1058040" y="3029040"/>
                <a:ext cx="105120" cy="239040"/>
              </a:xfrm>
              <a:prstGeom prst="bentConnector3">
                <a:avLst>
                  <a:gd name="adj1" fmla="val 49828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sp>
            <p:nvSpPr>
              <p:cNvPr id="186" name="Rounded Rectangle 122"/>
              <p:cNvSpPr/>
              <p:nvPr/>
            </p:nvSpPr>
            <p:spPr>
              <a:xfrm>
                <a:off x="1557720" y="4038480"/>
                <a:ext cx="219960" cy="228600"/>
              </a:xfrm>
              <a:custGeom>
                <a:avLst/>
                <a:gdLst>
                  <a:gd name="textAreaLeft" fmla="*/ 10440 w 219960"/>
                  <a:gd name="textAreaRight" fmla="*/ 209520 w 219960"/>
                  <a:gd name="textAreaTop" fmla="*/ 10440 h 228600"/>
                  <a:gd name="textAreaBottom" fmla="*/ 218160 h 228600"/>
                </a:gdLst>
                <a:ahLst/>
                <a:rect l="textAreaLeft" t="textAreaTop" r="textAreaRight" b="textAreaBottom"/>
                <a:pathLst>
                  <a:path w="21600" h="22447">
                    <a:moveTo>
                      <a:pt x="3600" y="0"/>
                    </a:moveTo>
                    <a:arcTo wR="3600" hR="3600" stAng="16200000" swAng="-5400000"/>
                    <a:lnTo>
                      <a:pt x="0" y="18847"/>
                    </a:lnTo>
                    <a:arcTo wR="3600" hR="3600" stAng="10800000" swAng="-5400000"/>
                    <a:lnTo>
                      <a:pt x="18000" y="22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ounded Rectangle 123"/>
              <p:cNvSpPr/>
              <p:nvPr/>
            </p:nvSpPr>
            <p:spPr>
              <a:xfrm>
                <a:off x="1439280" y="4343400"/>
                <a:ext cx="219960" cy="228600"/>
              </a:xfrm>
              <a:custGeom>
                <a:avLst/>
                <a:gdLst>
                  <a:gd name="textAreaLeft" fmla="*/ 10440 w 219960"/>
                  <a:gd name="textAreaRight" fmla="*/ 209520 w 219960"/>
                  <a:gd name="textAreaTop" fmla="*/ 10440 h 228600"/>
                  <a:gd name="textAreaBottom" fmla="*/ 218160 h 228600"/>
                </a:gdLst>
                <a:ahLst/>
                <a:rect l="textAreaLeft" t="textAreaTop" r="textAreaRight" b="textAreaBottom"/>
                <a:pathLst>
                  <a:path w="21600" h="22447">
                    <a:moveTo>
                      <a:pt x="3600" y="0"/>
                    </a:moveTo>
                    <a:arcTo wR="3600" hR="3600" stAng="16200000" swAng="-5400000"/>
                    <a:lnTo>
                      <a:pt x="0" y="18847"/>
                    </a:lnTo>
                    <a:arcTo wR="3600" hR="3600" stAng="10800000" swAng="-5400000"/>
                    <a:lnTo>
                      <a:pt x="18000" y="22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ounded Rectangle 124"/>
              <p:cNvSpPr/>
              <p:nvPr/>
            </p:nvSpPr>
            <p:spPr>
              <a:xfrm>
                <a:off x="1676160" y="4343400"/>
                <a:ext cx="219960" cy="228600"/>
              </a:xfrm>
              <a:custGeom>
                <a:avLst/>
                <a:gdLst>
                  <a:gd name="textAreaLeft" fmla="*/ 10440 w 219960"/>
                  <a:gd name="textAreaRight" fmla="*/ 209520 w 219960"/>
                  <a:gd name="textAreaTop" fmla="*/ 10440 h 228600"/>
                  <a:gd name="textAreaBottom" fmla="*/ 218160 h 228600"/>
                </a:gdLst>
                <a:ahLst/>
                <a:rect l="textAreaLeft" t="textAreaTop" r="textAreaRight" b="textAreaBottom"/>
                <a:pathLst>
                  <a:path w="21600" h="22447">
                    <a:moveTo>
                      <a:pt x="3600" y="0"/>
                    </a:moveTo>
                    <a:arcTo wR="3600" hR="3600" stAng="16200000" swAng="-5400000"/>
                    <a:lnTo>
                      <a:pt x="0" y="18847"/>
                    </a:lnTo>
                    <a:arcTo wR="3600" hR="3600" stAng="10800000" swAng="-5400000"/>
                    <a:lnTo>
                      <a:pt x="18000" y="22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ounded Rectangle 131"/>
              <p:cNvSpPr/>
              <p:nvPr/>
            </p:nvSpPr>
            <p:spPr>
              <a:xfrm>
                <a:off x="173556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ounded Rectangle 132"/>
              <p:cNvSpPr/>
              <p:nvPr/>
            </p:nvSpPr>
            <p:spPr>
              <a:xfrm>
                <a:off x="187092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ounded Rectangle 133"/>
              <p:cNvSpPr/>
              <p:nvPr/>
            </p:nvSpPr>
            <p:spPr>
              <a:xfrm>
                <a:off x="200664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ounded Rectangle 134"/>
              <p:cNvSpPr/>
              <p:nvPr/>
            </p:nvSpPr>
            <p:spPr>
              <a:xfrm>
                <a:off x="217152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ounded Rectangle 135"/>
              <p:cNvSpPr/>
              <p:nvPr/>
            </p:nvSpPr>
            <p:spPr>
              <a:xfrm>
                <a:off x="230724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ounded Rectangle 136"/>
              <p:cNvSpPr/>
              <p:nvPr/>
            </p:nvSpPr>
            <p:spPr>
              <a:xfrm>
                <a:off x="244260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ounded Rectangle 137"/>
              <p:cNvSpPr/>
              <p:nvPr/>
            </p:nvSpPr>
            <p:spPr>
              <a:xfrm>
                <a:off x="87192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ounded Rectangle 138"/>
              <p:cNvSpPr/>
              <p:nvPr/>
            </p:nvSpPr>
            <p:spPr>
              <a:xfrm>
                <a:off x="100728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ounded Rectangle 139"/>
              <p:cNvSpPr/>
              <p:nvPr/>
            </p:nvSpPr>
            <p:spPr>
              <a:xfrm>
                <a:off x="114264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ounded Rectangle 140"/>
              <p:cNvSpPr/>
              <p:nvPr/>
            </p:nvSpPr>
            <p:spPr>
              <a:xfrm>
                <a:off x="130356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ounded Rectangle 141"/>
              <p:cNvSpPr/>
              <p:nvPr/>
            </p:nvSpPr>
            <p:spPr>
              <a:xfrm>
                <a:off x="143928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ounded Rectangle 142"/>
              <p:cNvSpPr/>
              <p:nvPr/>
            </p:nvSpPr>
            <p:spPr>
              <a:xfrm>
                <a:off x="157464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Elbow Connector 143"/>
              <p:cNvCxnSpPr>
                <a:stCxn id="186" idx="2"/>
                <a:endCxn id="188" idx="0"/>
              </p:cNvCxnSpPr>
              <p:nvPr/>
            </p:nvCxnSpPr>
            <p:spPr>
              <a:xfrm flipH="1" rot="16200000">
                <a:off x="1688040" y="4245480"/>
                <a:ext cx="76680" cy="119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2" name="Elbow Connector 144"/>
              <p:cNvCxnSpPr>
                <a:stCxn id="186" idx="2"/>
                <a:endCxn id="187" idx="0"/>
              </p:cNvCxnSpPr>
              <p:nvPr/>
            </p:nvCxnSpPr>
            <p:spPr>
              <a:xfrm rot="5400000">
                <a:off x="1569600" y="4245480"/>
                <a:ext cx="76680" cy="119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3" name="Elbow Connector 151"/>
              <p:cNvCxnSpPr>
                <a:stCxn id="188" idx="2"/>
                <a:endCxn id="189" idx="0"/>
              </p:cNvCxnSpPr>
              <p:nvPr/>
            </p:nvCxnSpPr>
            <p:spPr>
              <a:xfrm flipH="1" rot="16200000">
                <a:off x="1749240" y="4607640"/>
                <a:ext cx="76680" cy="46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4" name="Elbow Connector 152"/>
              <p:cNvCxnSpPr>
                <a:stCxn id="188" idx="2"/>
                <a:endCxn id="190" idx="0"/>
              </p:cNvCxnSpPr>
              <p:nvPr/>
            </p:nvCxnSpPr>
            <p:spPr>
              <a:xfrm flipH="1" rot="16200000">
                <a:off x="1818000" y="4539600"/>
                <a:ext cx="76680" cy="140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5" name="Elbow Connector 153"/>
              <p:cNvCxnSpPr>
                <a:stCxn id="188" idx="2"/>
                <a:endCxn id="191" idx="0"/>
              </p:cNvCxnSpPr>
              <p:nvPr/>
            </p:nvCxnSpPr>
            <p:spPr>
              <a:xfrm flipH="1" rot="16200000">
                <a:off x="1885680" y="4471920"/>
                <a:ext cx="76680" cy="275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6" name="Elbow Connector 154"/>
              <p:cNvCxnSpPr>
                <a:stCxn id="207" idx="2"/>
                <a:endCxn id="192" idx="0"/>
              </p:cNvCxnSpPr>
              <p:nvPr/>
            </p:nvCxnSpPr>
            <p:spPr>
              <a:xfrm rot="5400000">
                <a:off x="2208960" y="4588560"/>
                <a:ext cx="76680" cy="428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8" name="Elbow Connector 155"/>
              <p:cNvCxnSpPr>
                <a:stCxn id="207" idx="2"/>
                <a:endCxn id="193" idx="0"/>
              </p:cNvCxnSpPr>
              <p:nvPr/>
            </p:nvCxnSpPr>
            <p:spPr>
              <a:xfrm flipH="1" rot="16200000">
                <a:off x="2277360" y="4563000"/>
                <a:ext cx="76680" cy="936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09" name="Elbow Connector 156"/>
              <p:cNvCxnSpPr>
                <a:stCxn id="207" idx="2"/>
                <a:endCxn id="194" idx="0"/>
              </p:cNvCxnSpPr>
              <p:nvPr/>
            </p:nvCxnSpPr>
            <p:spPr>
              <a:xfrm flipH="1" rot="16200000">
                <a:off x="2344320" y="4495320"/>
                <a:ext cx="76680" cy="229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0" name="Elbow Connector 157"/>
              <p:cNvCxnSpPr>
                <a:stCxn id="187" idx="2"/>
                <a:endCxn id="200" idx="0"/>
              </p:cNvCxnSpPr>
              <p:nvPr/>
            </p:nvCxnSpPr>
            <p:spPr>
              <a:xfrm flipH="1" rot="16200000">
                <a:off x="1550160" y="4569480"/>
                <a:ext cx="76680" cy="810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1" name="Elbow Connector 158"/>
              <p:cNvCxnSpPr>
                <a:stCxn id="187" idx="2"/>
                <a:endCxn id="199" idx="0"/>
              </p:cNvCxnSpPr>
              <p:nvPr/>
            </p:nvCxnSpPr>
            <p:spPr>
              <a:xfrm rot="5400000">
                <a:off x="1483200" y="4582440"/>
                <a:ext cx="76680" cy="554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2" name="Elbow Connector 159"/>
              <p:cNvCxnSpPr>
                <a:stCxn id="187" idx="2"/>
                <a:endCxn id="198" idx="0"/>
              </p:cNvCxnSpPr>
              <p:nvPr/>
            </p:nvCxnSpPr>
            <p:spPr>
              <a:xfrm rot="5400000">
                <a:off x="1415160" y="4514400"/>
                <a:ext cx="76680" cy="191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3" name="Elbow Connector 160"/>
              <p:cNvCxnSpPr>
                <a:stCxn id="214" idx="2"/>
                <a:endCxn id="197" idx="0"/>
              </p:cNvCxnSpPr>
              <p:nvPr/>
            </p:nvCxnSpPr>
            <p:spPr>
              <a:xfrm rot="5400000">
                <a:off x="1212120" y="4556880"/>
                <a:ext cx="76680" cy="106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5" name="Elbow Connector 161"/>
              <p:cNvCxnSpPr>
                <a:stCxn id="214" idx="2"/>
                <a:endCxn id="196" idx="0"/>
              </p:cNvCxnSpPr>
              <p:nvPr/>
            </p:nvCxnSpPr>
            <p:spPr>
              <a:xfrm rot="5400000">
                <a:off x="1144440" y="4489200"/>
                <a:ext cx="76680" cy="241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6" name="Elbow Connector 162"/>
              <p:cNvCxnSpPr>
                <a:stCxn id="214" idx="2"/>
                <a:endCxn id="195" idx="0"/>
              </p:cNvCxnSpPr>
              <p:nvPr/>
            </p:nvCxnSpPr>
            <p:spPr>
              <a:xfrm rot="5400000">
                <a:off x="1076400" y="4421520"/>
                <a:ext cx="76680" cy="377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sp>
            <p:nvSpPr>
              <p:cNvPr id="217" name="Rounded Rectangle 163"/>
              <p:cNvSpPr/>
              <p:nvPr/>
            </p:nvSpPr>
            <p:spPr>
              <a:xfrm>
                <a:off x="1913400" y="4343400"/>
                <a:ext cx="219960" cy="228600"/>
              </a:xfrm>
              <a:custGeom>
                <a:avLst/>
                <a:gdLst>
                  <a:gd name="textAreaLeft" fmla="*/ 10440 w 219960"/>
                  <a:gd name="textAreaRight" fmla="*/ 209520 w 219960"/>
                  <a:gd name="textAreaTop" fmla="*/ 10440 h 228600"/>
                  <a:gd name="textAreaBottom" fmla="*/ 218160 h 228600"/>
                </a:gdLst>
                <a:ahLst/>
                <a:rect l="textAreaLeft" t="textAreaTop" r="textAreaRight" b="textAreaBottom"/>
                <a:pathLst>
                  <a:path w="21600" h="22447">
                    <a:moveTo>
                      <a:pt x="3600" y="0"/>
                    </a:moveTo>
                    <a:arcTo wR="3600" hR="3600" stAng="16200000" swAng="-5400000"/>
                    <a:lnTo>
                      <a:pt x="0" y="18847"/>
                    </a:lnTo>
                    <a:arcTo wR="3600" hR="3600" stAng="10800000" swAng="-5400000"/>
                    <a:lnTo>
                      <a:pt x="18000" y="22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ounded Rectangle 164"/>
              <p:cNvSpPr/>
              <p:nvPr/>
            </p:nvSpPr>
            <p:spPr>
              <a:xfrm>
                <a:off x="2158920" y="4343400"/>
                <a:ext cx="219960" cy="228600"/>
              </a:xfrm>
              <a:custGeom>
                <a:avLst/>
                <a:gdLst>
                  <a:gd name="textAreaLeft" fmla="*/ 10440 w 219960"/>
                  <a:gd name="textAreaRight" fmla="*/ 209520 w 219960"/>
                  <a:gd name="textAreaTop" fmla="*/ 10440 h 228600"/>
                  <a:gd name="textAreaBottom" fmla="*/ 218160 h 228600"/>
                </a:gdLst>
                <a:ahLst/>
                <a:rect l="textAreaLeft" t="textAreaTop" r="textAreaRight" b="textAreaBottom"/>
                <a:pathLst>
                  <a:path w="21600" h="22447">
                    <a:moveTo>
                      <a:pt x="3600" y="0"/>
                    </a:moveTo>
                    <a:arcTo wR="3600" hR="3600" stAng="16200000" swAng="-5400000"/>
                    <a:lnTo>
                      <a:pt x="0" y="18847"/>
                    </a:lnTo>
                    <a:arcTo wR="3600" hR="3600" stAng="10800000" swAng="-5400000"/>
                    <a:lnTo>
                      <a:pt x="18000" y="22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ounded Rectangle 166"/>
              <p:cNvSpPr/>
              <p:nvPr/>
            </p:nvSpPr>
            <p:spPr>
              <a:xfrm>
                <a:off x="1193400" y="4343400"/>
                <a:ext cx="219960" cy="228600"/>
              </a:xfrm>
              <a:custGeom>
                <a:avLst/>
                <a:gdLst>
                  <a:gd name="textAreaLeft" fmla="*/ 10440 w 219960"/>
                  <a:gd name="textAreaRight" fmla="*/ 209520 w 219960"/>
                  <a:gd name="textAreaTop" fmla="*/ 10440 h 228600"/>
                  <a:gd name="textAreaBottom" fmla="*/ 218160 h 228600"/>
                </a:gdLst>
                <a:ahLst/>
                <a:rect l="textAreaLeft" t="textAreaTop" r="textAreaRight" b="textAreaBottom"/>
                <a:pathLst>
                  <a:path w="21600" h="22447">
                    <a:moveTo>
                      <a:pt x="3600" y="0"/>
                    </a:moveTo>
                    <a:arcTo wR="3600" hR="3600" stAng="16200000" swAng="-5400000"/>
                    <a:lnTo>
                      <a:pt x="0" y="18847"/>
                    </a:lnTo>
                    <a:arcTo wR="3600" hR="3600" stAng="10800000" swAng="-5400000"/>
                    <a:lnTo>
                      <a:pt x="18000" y="22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Elbow Connector 170"/>
              <p:cNvCxnSpPr>
                <a:stCxn id="186" idx="2"/>
                <a:endCxn id="214" idx="0"/>
              </p:cNvCxnSpPr>
              <p:nvPr/>
            </p:nvCxnSpPr>
            <p:spPr>
              <a:xfrm rot="5400000">
                <a:off x="1446840" y="4122720"/>
                <a:ext cx="76680" cy="3646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19" name="Elbow Connector 175"/>
              <p:cNvCxnSpPr>
                <a:stCxn id="186" idx="2"/>
                <a:endCxn id="217" idx="0"/>
              </p:cNvCxnSpPr>
              <p:nvPr/>
            </p:nvCxnSpPr>
            <p:spPr>
              <a:xfrm flipH="1" rot="16200000">
                <a:off x="1806480" y="4127040"/>
                <a:ext cx="76680" cy="3560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20" name="Elbow Connector 178"/>
              <p:cNvCxnSpPr>
                <a:stCxn id="207" idx="0"/>
                <a:endCxn id="186" idx="2"/>
              </p:cNvCxnSpPr>
              <p:nvPr/>
            </p:nvCxnSpPr>
            <p:spPr>
              <a:xfrm flipV="1" rot="16200000">
                <a:off x="1929960" y="4003560"/>
                <a:ext cx="76680" cy="601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sp>
            <p:nvSpPr>
              <p:cNvPr id="221" name="Rounded Rectangle 210"/>
              <p:cNvSpPr/>
              <p:nvPr/>
            </p:nvSpPr>
            <p:spPr>
              <a:xfrm>
                <a:off x="260352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ounded Rectangle 211"/>
              <p:cNvSpPr/>
              <p:nvPr/>
            </p:nvSpPr>
            <p:spPr>
              <a:xfrm>
                <a:off x="273888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ounded Rectangle 212"/>
              <p:cNvSpPr/>
              <p:nvPr/>
            </p:nvSpPr>
            <p:spPr>
              <a:xfrm>
                <a:off x="287460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4" name="Elbow Connector 213"/>
              <p:cNvCxnSpPr>
                <a:stCxn id="207" idx="2"/>
                <a:endCxn id="221" idx="0"/>
              </p:cNvCxnSpPr>
              <p:nvPr/>
            </p:nvCxnSpPr>
            <p:spPr>
              <a:xfrm flipH="1" rot="16200000">
                <a:off x="2425680" y="4414680"/>
                <a:ext cx="76680" cy="3902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25" name="Elbow Connector 214"/>
              <p:cNvCxnSpPr>
                <a:stCxn id="207" idx="2"/>
                <a:endCxn id="222" idx="0"/>
              </p:cNvCxnSpPr>
              <p:nvPr/>
            </p:nvCxnSpPr>
            <p:spPr>
              <a:xfrm flipH="1" rot="16200000">
                <a:off x="2493360" y="4347000"/>
                <a:ext cx="76680" cy="5256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26" name="Elbow Connector 215"/>
              <p:cNvCxnSpPr>
                <a:stCxn id="207" idx="2"/>
                <a:endCxn id="223" idx="0"/>
              </p:cNvCxnSpPr>
              <p:nvPr/>
            </p:nvCxnSpPr>
            <p:spPr>
              <a:xfrm flipH="1" rot="16200000">
                <a:off x="2561040" y="4279680"/>
                <a:ext cx="76680" cy="6606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sp>
            <p:nvSpPr>
              <p:cNvPr id="227" name="Rounded Rectangle 216"/>
              <p:cNvSpPr/>
              <p:nvPr/>
            </p:nvSpPr>
            <p:spPr>
              <a:xfrm>
                <a:off x="304812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ounded Rectangle 217"/>
              <p:cNvSpPr/>
              <p:nvPr/>
            </p:nvSpPr>
            <p:spPr>
              <a:xfrm>
                <a:off x="318348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ounded Rectangle 218"/>
              <p:cNvSpPr/>
              <p:nvPr/>
            </p:nvSpPr>
            <p:spPr>
              <a:xfrm>
                <a:off x="3319200" y="4647960"/>
                <a:ext cx="109800" cy="228600"/>
              </a:xfrm>
              <a:custGeom>
                <a:avLst/>
                <a:gdLst>
                  <a:gd name="textAreaLeft" fmla="*/ 5040 w 109800"/>
                  <a:gd name="textAreaRight" fmla="*/ 104760 w 109800"/>
                  <a:gd name="textAreaTop" fmla="*/ 5040 h 228600"/>
                  <a:gd name="textAreaBottom" fmla="*/ 223560 h 228600"/>
                </a:gdLst>
                <a:ahLst/>
                <a:rect l="textAreaLeft" t="textAreaTop" r="textAreaRight" b="textAreaBottom"/>
                <a:pathLst>
                  <a:path w="21600" h="44894">
                    <a:moveTo>
                      <a:pt x="3600" y="0"/>
                    </a:moveTo>
                    <a:arcTo wR="3600" hR="3600" stAng="16200000" swAng="-5400000"/>
                    <a:lnTo>
                      <a:pt x="0" y="41294"/>
                    </a:lnTo>
                    <a:arcTo wR="3600" hR="3600" stAng="10800000" swAng="-5400000"/>
                    <a:lnTo>
                      <a:pt x="18000" y="4489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e6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Elbow Connector 219"/>
              <p:cNvCxnSpPr>
                <a:stCxn id="207" idx="2"/>
                <a:endCxn id="227" idx="0"/>
              </p:cNvCxnSpPr>
              <p:nvPr/>
            </p:nvCxnSpPr>
            <p:spPr>
              <a:xfrm flipH="1" rot="16200000">
                <a:off x="2647080" y="4192560"/>
                <a:ext cx="76680" cy="8348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31" name="Elbow Connector 220"/>
              <p:cNvCxnSpPr>
                <a:stCxn id="207" idx="2"/>
                <a:endCxn id="228" idx="0"/>
              </p:cNvCxnSpPr>
              <p:nvPr/>
            </p:nvCxnSpPr>
            <p:spPr>
              <a:xfrm flipH="1" rot="16200000">
                <a:off x="2714760" y="4124880"/>
                <a:ext cx="76680" cy="9702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cxnSp>
            <p:nvCxnSpPr>
              <p:cNvPr id="232" name="Elbow Connector 221"/>
              <p:cNvCxnSpPr>
                <a:stCxn id="207" idx="2"/>
                <a:endCxn id="229" idx="0"/>
              </p:cNvCxnSpPr>
              <p:nvPr/>
            </p:nvCxnSpPr>
            <p:spPr>
              <a:xfrm flipH="1" rot="16200000">
                <a:off x="2782440" y="4057200"/>
                <a:ext cx="76680" cy="1105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808080"/>
                </a:solidFill>
                <a:round/>
              </a:ln>
            </p:spPr>
          </p:cxnSp>
          <p:sp>
            <p:nvSpPr>
              <p:cNvPr id="233" name="Left Brace 231"/>
              <p:cNvSpPr/>
              <p:nvPr/>
            </p:nvSpPr>
            <p:spPr>
              <a:xfrm rot="16200000">
                <a:off x="1523880" y="2933280"/>
                <a:ext cx="304560" cy="167652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39600 h 1676520"/>
                  <a:gd name="textAreaBottom" fmla="*/ 163692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18"/>
                      <a:pt x="10800" y="1636"/>
                    </a:cubicBezTo>
                    <a:lnTo>
                      <a:pt x="10800" y="8837"/>
                    </a:lnTo>
                    <a:cubicBezTo>
                      <a:pt x="10800" y="9655"/>
                      <a:pt x="5400" y="10473"/>
                      <a:pt x="0" y="10473"/>
                    </a:cubicBezTo>
                    <a:cubicBezTo>
                      <a:pt x="5400" y="10473"/>
                      <a:pt x="10800" y="11291"/>
                      <a:pt x="10800" y="12109"/>
                    </a:cubicBezTo>
                    <a:lnTo>
                      <a:pt x="10800" y="19964"/>
                    </a:lnTo>
                    <a:cubicBezTo>
                      <a:pt x="10800" y="20782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Coaching Ejecutivo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35" name="106 CuadroTexto"/>
          <p:cNvSpPr/>
          <p:nvPr/>
        </p:nvSpPr>
        <p:spPr>
          <a:xfrm>
            <a:off x="2210040" y="1600200"/>
            <a:ext cx="45205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focado 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atisfacción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laciones inter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bajo en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ejo del cambio y del 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5773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Coaching como estilo de liderazgo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grpSp>
        <p:nvGrpSpPr>
          <p:cNvPr id="237" name="9 Grupo"/>
          <p:cNvGrpSpPr/>
          <p:nvPr/>
        </p:nvGrpSpPr>
        <p:grpSpPr>
          <a:xfrm>
            <a:off x="2362320" y="2819520"/>
            <a:ext cx="5329080" cy="1981080"/>
            <a:chOff x="2362320" y="2819520"/>
            <a:chExt cx="5329080" cy="1981080"/>
          </a:xfrm>
        </p:grpSpPr>
        <p:sp>
          <p:nvSpPr>
            <p:cNvPr id="238" name="AutoShape 13"/>
            <p:cNvSpPr/>
            <p:nvPr/>
          </p:nvSpPr>
          <p:spPr>
            <a:xfrm>
              <a:off x="2362320" y="2819520"/>
              <a:ext cx="5329080" cy="1981080"/>
            </a:xfrm>
            <a:prstGeom prst="roundRect">
              <a:avLst>
                <a:gd name="adj" fmla="val 10259"/>
              </a:avLst>
            </a:prstGeom>
            <a:solidFill>
              <a:srgbClr val="b32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7"/>
            <p:cNvSpPr/>
            <p:nvPr/>
          </p:nvSpPr>
          <p:spPr>
            <a:xfrm>
              <a:off x="4471920" y="3019320"/>
              <a:ext cx="3089160" cy="463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Direc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4471920" y="4202280"/>
              <a:ext cx="3089160" cy="4651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Desarrollo de ot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7"/>
            <p:cNvSpPr/>
            <p:nvPr/>
          </p:nvSpPr>
          <p:spPr>
            <a:xfrm>
              <a:off x="4471920" y="3619440"/>
              <a:ext cx="3089160" cy="4651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595959"/>
                  </a:solidFill>
                  <a:latin typeface="Arial"/>
                  <a:ea typeface="ＭＳ Ｐゴシック"/>
                </a:rPr>
                <a:t>Democr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27"/>
            <p:cNvSpPr/>
            <p:nvPr/>
          </p:nvSpPr>
          <p:spPr>
            <a:xfrm>
              <a:off x="2430360" y="3502080"/>
              <a:ext cx="2049480" cy="479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iderazg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r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69357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Metodología Duhne de Coaching Ejecutivo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sp>
        <p:nvSpPr>
          <p:cNvPr id="244" name="22 CuadroTexto"/>
          <p:cNvSpPr/>
          <p:nvPr/>
        </p:nvSpPr>
        <p:spPr>
          <a:xfrm>
            <a:off x="1711080" y="2133720"/>
            <a:ext cx="676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ntes de nuestra metodologí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ntología del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ción Neuro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g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ácticas Duhne, aplicaciones a nivel ejec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839520"/>
            <a:ext cx="69357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8429"/>
                </a:solidFill>
                <a:latin typeface="Arial"/>
              </a:rPr>
              <a:t>Metodología Duhne de Coaching Ejecutivo</a:t>
            </a:r>
            <a:endParaRPr b="0" lang="en-US" sz="2400" spc="-1" strike="noStrike">
              <a:solidFill>
                <a:srgbClr val="f78429"/>
              </a:solidFill>
              <a:latin typeface="Arial"/>
            </a:endParaRPr>
          </a:p>
        </p:txBody>
      </p:sp>
      <p:grpSp>
        <p:nvGrpSpPr>
          <p:cNvPr id="246" name="Group 39"/>
          <p:cNvGrpSpPr/>
          <p:nvPr/>
        </p:nvGrpSpPr>
        <p:grpSpPr>
          <a:xfrm>
            <a:off x="1828800" y="1676520"/>
            <a:ext cx="5773680" cy="4724280"/>
            <a:chOff x="1828800" y="1676520"/>
            <a:chExt cx="5773680" cy="4724280"/>
          </a:xfrm>
        </p:grpSpPr>
        <p:sp>
          <p:nvSpPr>
            <p:cNvPr id="247" name="Oval 31"/>
            <p:cNvSpPr/>
            <p:nvPr/>
          </p:nvSpPr>
          <p:spPr>
            <a:xfrm>
              <a:off x="2598480" y="1965600"/>
              <a:ext cx="4233960" cy="4145760"/>
            </a:xfrm>
            <a:prstGeom prst="ellipse">
              <a:avLst/>
            </a:prstGeom>
            <a:noFill/>
            <a:ln w="5724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3752640" y="1676520"/>
              <a:ext cx="1925640" cy="963360"/>
            </a:xfrm>
            <a:prstGeom prst="ellipse">
              <a:avLst/>
            </a:prstGeom>
            <a:solidFill>
              <a:srgbClr val="213291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5"/>
            <p:cNvSpPr/>
            <p:nvPr/>
          </p:nvSpPr>
          <p:spPr>
            <a:xfrm>
              <a:off x="4009320" y="182088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quie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5678640" y="2736720"/>
              <a:ext cx="1923840" cy="963360"/>
            </a:xfrm>
            <a:prstGeom prst="ellipse">
              <a:avLst/>
            </a:prstGeom>
            <a:solidFill>
              <a:srgbClr val="009ee2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7"/>
            <p:cNvSpPr/>
            <p:nvPr/>
          </p:nvSpPr>
          <p:spPr>
            <a:xfrm>
              <a:off x="5976360" y="2881440"/>
              <a:ext cx="138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cucha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indag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5678640" y="4376880"/>
              <a:ext cx="1923840" cy="963360"/>
            </a:xfrm>
            <a:prstGeom prst="ellipse">
              <a:avLst/>
            </a:prstGeom>
            <a:solidFill>
              <a:srgbClr val="213291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5839920" y="4520880"/>
              <a:ext cx="163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-defin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quie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1828800" y="2736720"/>
              <a:ext cx="1923840" cy="963360"/>
            </a:xfrm>
            <a:prstGeom prst="ellipse">
              <a:avLst/>
            </a:prstGeom>
            <a:solidFill>
              <a:srgbClr val="009ee2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1"/>
            <p:cNvSpPr/>
            <p:nvPr/>
          </p:nvSpPr>
          <p:spPr>
            <a:xfrm>
              <a:off x="1890000" y="288144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satisf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3752640" y="5437440"/>
              <a:ext cx="1925640" cy="963360"/>
            </a:xfrm>
            <a:prstGeom prst="ellipse">
              <a:avLst/>
            </a:prstGeom>
            <a:solidFill>
              <a:srgbClr val="009ee2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3"/>
            <p:cNvSpPr/>
            <p:nvPr/>
          </p:nvSpPr>
          <p:spPr>
            <a:xfrm>
              <a:off x="3976560" y="5706360"/>
              <a:ext cx="154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Interven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1828800" y="4376880"/>
              <a:ext cx="1923840" cy="963360"/>
            </a:xfrm>
            <a:prstGeom prst="ellipse">
              <a:avLst/>
            </a:prstGeom>
            <a:solidFill>
              <a:srgbClr val="009ee2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5"/>
            <p:cNvSpPr/>
            <p:nvPr/>
          </p:nvSpPr>
          <p:spPr>
            <a:xfrm>
              <a:off x="1982160" y="452088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mbios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mpromi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Isosceles Triangle 33"/>
            <p:cNvSpPr/>
            <p:nvPr/>
          </p:nvSpPr>
          <p:spPr>
            <a:xfrm rot="8700000">
              <a:off x="6194160" y="2587320"/>
              <a:ext cx="271080" cy="271800"/>
            </a:xfrm>
            <a:prstGeom prst="triangle">
              <a:avLst>
                <a:gd name="adj" fmla="val 50000"/>
              </a:avLst>
            </a:prstGeom>
            <a:solidFill>
              <a:srgbClr val="7c7c7c"/>
            </a:solidFill>
            <a:ln w="9360">
              <a:solidFill>
                <a:srgbClr val="7c7c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Isosceles Triangle 34" descr=""/>
            <p:cNvPicPr/>
            <p:nvPr/>
          </p:nvPicPr>
          <p:blipFill>
            <a:blip r:embed="rId1"/>
            <a:stretch/>
          </p:blipFill>
          <p:spPr>
            <a:xfrm>
              <a:off x="6681240" y="4145400"/>
              <a:ext cx="35964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Isosceles Triangle 35" descr=""/>
            <p:cNvPicPr/>
            <p:nvPr/>
          </p:nvPicPr>
          <p:blipFill>
            <a:blip r:embed="rId2"/>
            <a:stretch/>
          </p:blipFill>
          <p:spPr>
            <a:xfrm>
              <a:off x="5608440" y="5663160"/>
              <a:ext cx="389880" cy="3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Isosceles Triangle 36" descr=""/>
            <p:cNvPicPr/>
            <p:nvPr/>
          </p:nvPicPr>
          <p:blipFill>
            <a:blip r:embed="rId3"/>
            <a:stretch/>
          </p:blipFill>
          <p:spPr>
            <a:xfrm>
              <a:off x="2999160" y="5205960"/>
              <a:ext cx="42048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Isosceles Triangle 37" descr=""/>
            <p:cNvPicPr/>
            <p:nvPr/>
          </p:nvPicPr>
          <p:blipFill>
            <a:blip r:embed="rId4"/>
            <a:stretch/>
          </p:blipFill>
          <p:spPr>
            <a:xfrm>
              <a:off x="2511360" y="3694320"/>
              <a:ext cx="35964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Isosceles Triangle 38" descr=""/>
            <p:cNvPicPr/>
            <p:nvPr/>
          </p:nvPicPr>
          <p:blipFill>
            <a:blip r:embed="rId5"/>
            <a:stretch/>
          </p:blipFill>
          <p:spPr>
            <a:xfrm>
              <a:off x="3547800" y="2133720"/>
              <a:ext cx="39600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9:36:13Z</dcterms:created>
  <dc:creator>Carmen Duhne</dc:creator>
  <dc:description/>
  <dc:language>en-US</dc:language>
  <cp:lastModifiedBy>Luffi</cp:lastModifiedBy>
  <dcterms:modified xsi:type="dcterms:W3CDTF">2012-08-21T12:36:37Z</dcterms:modified>
  <cp:revision>157</cp:revision>
  <dc:subject/>
  <dc:title>Nombre del Curso CLIENTE Fecha</dc:title>
</cp:coreProperties>
</file>