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2959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0"/>
            <a:ext cx="295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000"/>
            <a:ext cx="4540320" cy="34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440" y="4330800"/>
            <a:ext cx="54687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42520"/>
            <a:ext cx="2959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4"/>
          </p:nvPr>
        </p:nvSpPr>
        <p:spPr>
          <a:xfrm>
            <a:off x="3884760" y="8659440"/>
            <a:ext cx="29541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FCAE0-408A-4FB9-AA94-CBFA731595A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4760" y="8659800"/>
            <a:ext cx="2958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2B150-4DCF-4CFD-A920-D48CEB5B2C6C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4760" y="8659800"/>
            <a:ext cx="2958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85BA9-5697-4E51-995B-351FDEAFB1FE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50920" y="684360"/>
            <a:ext cx="4545000" cy="34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4760" y="8659800"/>
            <a:ext cx="2958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9D7A6-7A6E-4E64-BC4E-AFF84C5A758D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F0ACE-9913-47D0-8798-5BA3E151822B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3CDE-E340-4A15-BF85-2EFF424ACCD7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8659800"/>
            <a:ext cx="2958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0ABA5-474B-4A51-8B91-007D33E472EC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84760" y="8659800"/>
            <a:ext cx="2958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09520-5357-4883-A80E-DA05A1E4B184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84760" y="8659800"/>
            <a:ext cx="2958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D4495-5EAC-43D3-B1B2-016AC2A8CB16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50920" y="684360"/>
            <a:ext cx="4545000" cy="34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4760" y="8659800"/>
            <a:ext cx="2958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4D4F8-A321-410C-803E-A627F0A8311D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50920" y="684360"/>
            <a:ext cx="4545000" cy="34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50920" y="684360"/>
            <a:ext cx="4545000" cy="34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8659800"/>
            <a:ext cx="2958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36404-A7E2-4827-9CD2-7530F5B325B6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50920" y="684360"/>
            <a:ext cx="4545000" cy="34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7056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B021-E10C-4E73-A1A2-F47EC979F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7388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230720"/>
            <a:ext cx="827388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E470-CA0A-4D62-8DC2-C56901EAB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56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4658-7E9F-4D33-A171-C637FA73D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4400" y="2133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960" y="2133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230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4400" y="4230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960" y="4230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CF5F-3443-4BCC-8C8A-01B296074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5CA5-9EA8-4C65-AC46-85B954CFD2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2738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5188-874D-4E50-8D73-253DEB69B4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738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DB07-D187-4631-A0CD-24AFA3D031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E731-59F9-4BD6-906D-0694F4B8D5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90D5-DFC0-44DA-ACC4-9AFE7DB9BF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0920" y="550800"/>
            <a:ext cx="445752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B0CD-2713-43B3-814E-2B04AC608A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AB57-95DD-4D1D-95BA-B0F30BAEE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2738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098F-31DC-40B8-A1D7-0AB0708A3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56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B7F1-A29F-44E1-854C-26AB0C929C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230720"/>
            <a:ext cx="827388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2DF5-2195-44DF-A5F5-6F53FCFB0B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7388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230720"/>
            <a:ext cx="827388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0EC4-6C7C-45E3-850A-5F22BDEA4F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56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167B-A6B9-4A60-B4D9-08BA1BBAAE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4400" y="2133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1960" y="2133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230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4400" y="4230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1960" y="4230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2AF3-468C-4A4F-B009-EFEDD17802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53C-4733-4317-B87C-15236E59C8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2738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6CC-AD56-4AFF-A153-352E8F166C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738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B8E-B793-4F56-A9C0-851BE85C0B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ED9-3005-431B-9143-2BA2D1C657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E48-D1D5-4C18-A93C-78771F3285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738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D1E8-1DE8-41D7-BA33-3A74845EF9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0920" y="550800"/>
            <a:ext cx="445752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5D6-1C1F-4811-B3F2-518172211A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7DF-C757-4328-9DDC-8AA43F602C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9656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A12-2108-484B-99B6-8CEA7A554F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230720"/>
            <a:ext cx="827388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1A4-DFC9-4100-BA2E-976142B3A3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7388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230720"/>
            <a:ext cx="827388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C6F-E7FA-4CAD-8876-AE46AC6E3E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9656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5E5-9E93-47F7-980A-B68C671DB9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54400" y="2133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51960" y="2133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230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54400" y="4230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51960" y="4230720"/>
            <a:ext cx="26640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773-E9A1-493D-9BC5-7CE04319C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BA55-0CB0-4330-AC6B-F5ADF73C9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617E-1FE6-4EF4-8055-FABB91836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550800"/>
            <a:ext cx="445752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4EDE-C52D-48DA-BBFC-F1682BC01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B356-EF4C-4C82-B2F0-41BC43AB4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560" y="4230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0CC7-FE80-4EFA-B184-BE20E3C2C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560" y="2133720"/>
            <a:ext cx="403740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230720"/>
            <a:ext cx="8273880" cy="19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EB99-7615-462C-9E09-073570FD9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2133720"/>
            <a:ext cx="82738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20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82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6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6188E-5652-4525-9AFC-8A7102F82642}" type="slidenum">
              <a:rPr b="0" lang="es-ES" sz="1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717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5472000" y="800280"/>
            <a:ext cx="3348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6800" anchor="t">
            <a:spAutoFit/>
          </a:bodyPr>
          <a:p>
            <a:pPr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RECCIÓN DE PRESTACIONES MÉDIC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754760" cy="14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245280"/>
            <a:ext cx="2120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82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16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23146A-A148-4B87-8DE4-3D37824B19F3}" type="slidenum">
              <a:rPr b="0" lang="es-ES" sz="1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17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72000" y="800280"/>
            <a:ext cx="3348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6800" anchor="t">
            <a:spAutoFit/>
          </a:bodyPr>
          <a:p>
            <a:pPr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RECCIÓN DE PRESTACIONES MÉDIC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717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72000" y="800280"/>
            <a:ext cx="3348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6800" anchor="t">
            <a:spAutoFit/>
          </a:bodyPr>
          <a:p>
            <a:pPr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RECCIÓN DE PRESTACIONES MÉDIC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6840" y="2133720"/>
            <a:ext cx="82738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0920" y="550800"/>
            <a:ext cx="44575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B55F5F-FD95-49B7-8584-5A2AF73E921C}" type="slidenum">
              <a:rPr b="0" lang="es-ES" sz="1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572080" y="5643720"/>
            <a:ext cx="334656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88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MX" sz="1800" spc="-1" strike="noStrike">
                <a:solidFill>
                  <a:srgbClr val="003300"/>
                </a:solidFill>
                <a:latin typeface="Arial"/>
                <a:ea typeface="Arial"/>
              </a:rPr>
              <a:t>UMF 33 Cd. Rey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65572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spAutoFit/>
          </a:bodyPr>
          <a:p>
            <a:pPr algn="ctr">
              <a:lnSpc>
                <a:spcPts val="6761"/>
              </a:lnSpc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8000"/>
                </a:solidFill>
                <a:latin typeface="Arial"/>
                <a:ea typeface="Arial"/>
              </a:rPr>
              <a:t>Programas Integrados de Salud</a:t>
            </a:r>
            <a:r>
              <a:rPr b="0" lang="es-MX" sz="4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s-MX" sz="6000" spc="-1" strike="noStrike">
                <a:solidFill>
                  <a:srgbClr val="008000"/>
                </a:solidFill>
                <a:latin typeface="Arial"/>
                <a:ea typeface="Arial"/>
              </a:rPr>
              <a:t>PREVENIM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2920" y="1071720"/>
            <a:ext cx="8358120" cy="42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737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-268200" algn="just">
              <a:lnSpc>
                <a:spcPts val="3061"/>
              </a:lnSpc>
              <a:spcBef>
                <a:spcPts val="737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Ocho de cada diez diabéticos tuvieron el antecedente de obes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25360" indent="-268200" algn="just">
              <a:lnSpc>
                <a:spcPts val="3061"/>
              </a:lnSpc>
              <a:spcBef>
                <a:spcPts val="737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De cada cien personas con diabet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39760" indent="-268200" algn="just">
              <a:lnSpc>
                <a:spcPts val="3061"/>
              </a:lnSpc>
              <a:spcBef>
                <a:spcPts val="737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Catorce desarrollan daño re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39760" indent="-268200" algn="just">
              <a:lnSpc>
                <a:spcPts val="3061"/>
              </a:lnSpc>
              <a:spcBef>
                <a:spcPts val="737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Diez tienen neuropatía perifér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39760" indent="-268200" algn="just">
              <a:lnSpc>
                <a:spcPts val="3061"/>
              </a:lnSpc>
              <a:spcBef>
                <a:spcPts val="737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Cinco presentan cegue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39760" indent="-268200" algn="just">
              <a:lnSpc>
                <a:spcPts val="3061"/>
              </a:lnSpc>
              <a:spcBef>
                <a:spcPts val="737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Diez padecen de pie diabético y de ellos, uno de cada tres, termina en amput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3920" y="5500800"/>
            <a:ext cx="8705880" cy="103824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a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sobrepeso y la obesidad, constituyen hasta el momento, la verdadera pandemia del siglo XX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27000" y="0"/>
            <a:ext cx="9171000" cy="10717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riorida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57120" y="2500200"/>
            <a:ext cx="864396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6680" indent="-436680" algn="just">
              <a:lnSpc>
                <a:spcPct val="110000"/>
              </a:lnSpc>
              <a:buClr>
                <a:srgbClr val="00cc00"/>
              </a:buClr>
              <a:buFont typeface="Wingdings" charset="2"/>
              <a:buChar char="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250,000 niños de guarderías y sus famili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tabLst>
                <a:tab algn="l" pos="0"/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buClr>
                <a:srgbClr val="00cc00"/>
              </a:buClr>
              <a:buFont typeface="Wingdings" charset="2"/>
              <a:buChar char="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4.5 millones de alumnos de primaria y secundari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tabLst>
                <a:tab algn="l" pos="0"/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buClr>
                <a:srgbClr val="00cc00"/>
              </a:buClr>
              <a:buFont typeface="Wingdings" charset="2"/>
              <a:buChar char="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2.5 millones de nivel medio superior y superi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tabLst>
                <a:tab algn="l" pos="0"/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buClr>
                <a:srgbClr val="00cc00"/>
              </a:buClr>
              <a:buFont typeface="Wingdings" charset="2"/>
              <a:buChar char="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,000,000 de  trabajadores en Empresa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tabLst>
                <a:tab algn="l" pos="0"/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buClr>
                <a:srgbClr val="00cc00"/>
              </a:buClr>
              <a:buFont typeface="Wingdings" charset="2"/>
              <a:buChar char="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2.5 millones de jubilados y pensionad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tabLst>
                <a:tab algn="l" pos="0"/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buClr>
                <a:srgbClr val="00cc00"/>
              </a:buClr>
              <a:buFont typeface="Wingdings" charset="2"/>
              <a:buChar char="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provechar oportunidades de contacto en las Unidades médic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tabLst>
                <a:tab algn="l" pos="0"/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ct val="110000"/>
              </a:lnSpc>
              <a:buClr>
                <a:srgbClr val="00cc00"/>
              </a:buClr>
              <a:buFont typeface="Wingdings" charset="2"/>
              <a:buChar char="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venios con empresas, sindicatos, escuelas y universida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27000" y="0"/>
            <a:ext cx="9171000" cy="10717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mpliación de cober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071720"/>
            <a:ext cx="9144000" cy="109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9900"/>
                </a:solidFill>
                <a:latin typeface="Arial"/>
              </a:rPr>
              <a:t>De 2006 a 2008 se incrementó en 87% la población atendida por PREVENIMSS, al pasar de ocho a quince millones de usuari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57160" y="1709640"/>
            <a:ext cx="6659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60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tilo de vida  activo y saluda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/>
          <p:nvPr/>
        </p:nvSpPr>
        <p:spPr>
          <a:xfrm>
            <a:off x="785880" y="2286000"/>
            <a:ext cx="792936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464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Promover hábitos y conductas pa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0240" indent="93852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808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limentación salud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0240" indent="93852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808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ctividad/ejercicio fí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0240" indent="93852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808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vitar y controlar el consumo de tabaco, alcohol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otras dro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0240" indent="93852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808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Detección y control del estrés y de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280" y="765000"/>
            <a:ext cx="44625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6600"/>
                </a:solidFill>
                <a:latin typeface="Arial"/>
                <a:ea typeface="Arial"/>
              </a:rPr>
              <a:t>PREVENI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1280" y="533520"/>
            <a:ext cx="44751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6600"/>
                </a:solidFill>
                <a:latin typeface="Arial"/>
                <a:ea typeface="Arial"/>
              </a:rPr>
              <a:t>Compromis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7120" y="1352520"/>
            <a:ext cx="8429760" cy="47991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6680" indent="-436680" algn="just">
              <a:lnSpc>
                <a:spcPts val="2962"/>
              </a:lnSpc>
              <a:buClr>
                <a:srgbClr val="00cc00"/>
              </a:buClr>
              <a:buFont typeface="Wingdings" charset="2"/>
              <a:buChar char="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minuir en la población derechohabiente los riesgos y daños a la salud atribuibles al sobrepeso y la obesidad, así como a las enfermedades crónicas relacionada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ts val="2962"/>
              </a:lnSpc>
              <a:tabLst>
                <a:tab algn="l" pos="0"/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436680" indent="-436680" algn="just">
              <a:lnSpc>
                <a:spcPts val="2962"/>
              </a:lnSpc>
              <a:buClr>
                <a:srgbClr val="00cc00"/>
              </a:buClr>
              <a:buFont typeface="Wingdings" charset="2"/>
              <a:buChar char="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9900"/>
                </a:solidFill>
                <a:latin typeface="Arial"/>
              </a:rPr>
              <a:t>Consolidar las estrategias orientadas a dar protección universal a la población derechohabiente con los Programas Integrados de Salud, que constituyen la mejor alternativa par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179360" indent="-441000" algn="just">
              <a:lnSpc>
                <a:spcPts val="3263"/>
              </a:lnSpc>
              <a:buClr>
                <a:srgbClr val="00cc00"/>
              </a:buClr>
              <a:buFont typeface="Arial"/>
              <a:buChar char="•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  <a:ea typeface="MS Gothic"/>
              </a:rPr>
              <a:t>Mejorar la calidad de vida y de salud de la población derechohab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79360" indent="-441000" algn="just">
              <a:lnSpc>
                <a:spcPts val="3263"/>
              </a:lnSpc>
              <a:buClr>
                <a:srgbClr val="00cc00"/>
              </a:buClr>
              <a:buFont typeface="Arial"/>
              <a:buChar char="•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  <a:ea typeface="MS Gothic"/>
              </a:rPr>
              <a:t>Garantizar la viabilidad financiera del IMSS y su permanencia como una institución  de Seguridad Social al servicio de los mexic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79360" indent="-441000" algn="just">
              <a:lnSpc>
                <a:spcPts val="3263"/>
              </a:lnSpc>
              <a:buClr>
                <a:srgbClr val="00cc00"/>
              </a:buClr>
              <a:buFont typeface="Arial"/>
              <a:buChar char="•"/>
              <a:tabLst>
                <a:tab algn="l" pos="4366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  <a:ea typeface="MS Gothic"/>
              </a:rPr>
              <a:t>Dar una respuesta eficiente, con calidad y sentido humano, a las expectativas de los derechohab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561960"/>
            <a:ext cx="44751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6600"/>
                </a:solidFill>
                <a:latin typeface="Arial"/>
                <a:ea typeface="Arial"/>
              </a:rPr>
              <a:t>Defini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20" y="1928880"/>
            <a:ext cx="82868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5440" indent="-325440" algn="just">
              <a:lnSpc>
                <a:spcPts val="4575"/>
              </a:lnSpc>
              <a:spcBef>
                <a:spcPts val="4751"/>
              </a:spcBef>
              <a:spcAft>
                <a:spcPts val="4249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Es una estrategia de prestación de servicios que tiene como propósito general la provisión sistemática y ordenada de acciones relacionadas con la promoción de la salud, la vigilancia de la nutrición, la prevención, detección y control de enfermedades, así como la salud reproductiva, ordenándolas en cinco grupos de 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just">
              <a:lnSpc>
                <a:spcPts val="4575"/>
              </a:lnSpc>
              <a:spcBef>
                <a:spcPts val="4751"/>
              </a:spcBef>
              <a:spcAft>
                <a:spcPts val="4249"/>
              </a:spcAft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7120" y="5187960"/>
            <a:ext cx="84344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ts val="2775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tención Preventiva Integrada es ofrecer a cada derechohabiente, por la misma enfermera, en el mismo lugar y momento, el paquete de servicios preventivos que le corresponde, de acuerdo al grupo de edad y sexo al que pertene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42800" y="1903320"/>
            <a:ext cx="7639200" cy="3097440"/>
            <a:chOff x="442800" y="1903320"/>
            <a:chExt cx="7639200" cy="3097440"/>
          </a:xfrm>
        </p:grpSpPr>
        <p:grpSp>
          <p:nvGrpSpPr>
            <p:cNvPr id="153" name=""/>
            <p:cNvGrpSpPr/>
            <p:nvPr/>
          </p:nvGrpSpPr>
          <p:grpSpPr>
            <a:xfrm>
              <a:off x="1741320" y="2543040"/>
              <a:ext cx="5313600" cy="790560"/>
              <a:chOff x="1741320" y="2543040"/>
              <a:chExt cx="5313600" cy="790560"/>
            </a:xfrm>
          </p:grpSpPr>
          <p:pic>
            <p:nvPicPr>
              <p:cNvPr id="1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41320" y="2543040"/>
                <a:ext cx="531360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1803240" y="2604960"/>
                <a:ext cx="51912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Verdana"/>
                    <a:ea typeface="Arial Unicode MS"/>
                  </a:rPr>
                  <a:t>Salud del Adolescente de 10 a 19 año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890640" y="2562120"/>
              <a:ext cx="244476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442800" y="1933560"/>
              <a:ext cx="809640" cy="54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1236600" y="1903320"/>
              <a:ext cx="4953240" cy="534960"/>
              <a:chOff x="1236600" y="1903320"/>
              <a:chExt cx="4953240" cy="534960"/>
            </a:xfrm>
          </p:grpSpPr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36600" y="1903320"/>
                <a:ext cx="4953240" cy="53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1316160" y="1965240"/>
                <a:ext cx="480348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Verdana"/>
                    <a:ea typeface="Arial Unicode MS"/>
                  </a:rPr>
                  <a:t>Salud del Niño menor de 10 año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797200" y="3768840"/>
              <a:ext cx="4978440" cy="534960"/>
              <a:chOff x="2797200" y="3768840"/>
              <a:chExt cx="4978440" cy="534960"/>
            </a:xfrm>
          </p:grpSpPr>
          <p:pic>
            <p:nvPicPr>
              <p:cNvPr id="16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97200" y="3768840"/>
                <a:ext cx="4978440" cy="53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2860560" y="3830760"/>
                <a:ext cx="485784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Verdana"/>
                    <a:ea typeface="Arial Unicode MS"/>
                  </a:rPr>
                  <a:t>Salud del Hombre de 20 a 59 año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386160" y="4467240"/>
              <a:ext cx="4695840" cy="401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alud del Adulto mayor de 59 añ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303640" y="3182760"/>
              <a:ext cx="5154480" cy="535320"/>
              <a:chOff x="2303640" y="3182760"/>
              <a:chExt cx="5154480" cy="535320"/>
            </a:xfrm>
          </p:grpSpPr>
          <p:pic>
            <p:nvPicPr>
              <p:cNvPr id="1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03640" y="3182760"/>
                <a:ext cx="5154480" cy="53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2363760" y="3243240"/>
                <a:ext cx="49975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Verdana"/>
                    <a:ea typeface="Arial Unicode MS"/>
                  </a:rPr>
                  <a:t>Salud de la Mujer de 20 a 59 años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960720" y="3014640"/>
              <a:ext cx="97164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-357120" y="514440"/>
            <a:ext cx="5500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6600"/>
                </a:solidFill>
                <a:latin typeface="Verdana"/>
              </a:rPr>
              <a:t>Grupos de e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1280" y="285840"/>
            <a:ext cx="4462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6600"/>
                </a:solidFill>
                <a:latin typeface="Arial"/>
                <a:ea typeface="Arial"/>
              </a:rPr>
              <a:t>Proces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5840" y="1627200"/>
            <a:ext cx="864396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Cada Programa de Salud en los cinco grupos de edad, está integrado por cinco procesos sustan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566640" algn="just">
              <a:lnSpc>
                <a:spcPts val="3600"/>
              </a:lnSpc>
              <a:spcBef>
                <a:spcPts val="451"/>
              </a:spcBef>
              <a:buClr>
                <a:srgbClr val="92d050"/>
              </a:buClr>
              <a:buFont typeface="Arial"/>
              <a:buAutoNum type="romanUcPeriod"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MX" sz="2800" spc="-1" strike="noStrike">
                <a:solidFill>
                  <a:srgbClr val="009900"/>
                </a:solidFill>
                <a:latin typeface="Arial"/>
                <a:ea typeface="Arial"/>
              </a:rPr>
              <a:t>Promoción de la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566640" algn="just">
              <a:lnSpc>
                <a:spcPts val="3600"/>
              </a:lnSpc>
              <a:spcBef>
                <a:spcPts val="451"/>
              </a:spcBef>
              <a:buClr>
                <a:srgbClr val="92d050"/>
              </a:buClr>
              <a:buFont typeface="Arial"/>
              <a:buAutoNum type="romanUcPeriod"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Nutr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lnSpc>
                <a:spcPts val="36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Vigilancia de la nutri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lnSpc>
                <a:spcPts val="36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Difusión de Planes de alimentación saludab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lnSpc>
                <a:spcPts val="36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Actividad y Ejercicio físic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566640" algn="just">
              <a:lnSpc>
                <a:spcPts val="3600"/>
              </a:lnSpc>
              <a:spcBef>
                <a:spcPts val="451"/>
              </a:spcBef>
              <a:buClr>
                <a:srgbClr val="92d050"/>
              </a:buClr>
              <a:buFont typeface="Arial"/>
              <a:buAutoNum type="romanUcPeriod"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MX" sz="2800" spc="-1" strike="noStrike">
                <a:solidFill>
                  <a:srgbClr val="009900"/>
                </a:solidFill>
                <a:latin typeface="Arial"/>
                <a:ea typeface="Arial"/>
              </a:rPr>
              <a:t>Prevención y control de enferm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566640" algn="just">
              <a:lnSpc>
                <a:spcPts val="3600"/>
              </a:lnSpc>
              <a:spcBef>
                <a:spcPts val="451"/>
              </a:spcBef>
              <a:buClr>
                <a:srgbClr val="92d050"/>
              </a:buClr>
              <a:buFont typeface="Arial"/>
              <a:buAutoNum type="romanUcPeriod"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MX" sz="2800" spc="-1" strike="noStrike">
                <a:solidFill>
                  <a:srgbClr val="009900"/>
                </a:solidFill>
                <a:latin typeface="Arial"/>
                <a:ea typeface="Arial"/>
              </a:rPr>
              <a:t>Detección temprana de enferm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566640" algn="just">
              <a:lnSpc>
                <a:spcPts val="3600"/>
              </a:lnSpc>
              <a:spcBef>
                <a:spcPts val="451"/>
              </a:spcBef>
              <a:buClr>
                <a:srgbClr val="92d050"/>
              </a:buClr>
              <a:buFont typeface="Arial"/>
              <a:buAutoNum type="romanUcPeriod"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MX" sz="2800" spc="-1" strike="noStrike">
                <a:solidFill>
                  <a:srgbClr val="009900"/>
                </a:solidFill>
                <a:latin typeface="Arial"/>
                <a:ea typeface="Arial"/>
              </a:rPr>
              <a:t>Salud reproduc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1280" y="390600"/>
            <a:ext cx="44751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6600"/>
                </a:solidFill>
                <a:latin typeface="Arial"/>
                <a:ea typeface="Arial"/>
              </a:rPr>
              <a:t>Objetiv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4200" y="1643040"/>
            <a:ext cx="8291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25400" indent="-268200" algn="just">
              <a:lnSpc>
                <a:spcPts val="3061"/>
              </a:lnSpc>
              <a:spcBef>
                <a:spcPts val="737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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Otorgar a cada derechohabiente, un conjunto de acciones preventivas y educativas para la protección de su 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-268200" algn="just">
              <a:lnSpc>
                <a:spcPts val="3061"/>
              </a:lnSpc>
              <a:spcBef>
                <a:spcPts val="737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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Mejorar la satisfacción de los derechohabientes y estimular su participación corresponsable en el cuidado de la 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-268200" algn="just">
              <a:lnSpc>
                <a:spcPts val="3061"/>
              </a:lnSpc>
              <a:spcBef>
                <a:spcPts val="737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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levar la cobertura  y el impacto de los programas de salud, mediante el uso eficiente de los recursos, en beneficio de la población derechohabie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061"/>
              </a:lnSpc>
              <a:spcBef>
                <a:spcPts val="451"/>
              </a:spcBef>
              <a:tabLst>
                <a:tab algn="l" pos="0"/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53068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Arial"/>
              </a:rPr>
              <a:t>Cambiar la cultura  en salud de prestadores de servicio y derechohabientes, para privilegiar la atención preventiva y anticipator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1280" y="428760"/>
            <a:ext cx="44625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6600"/>
                </a:solidFill>
                <a:latin typeface="Arial"/>
                <a:ea typeface="Arial"/>
              </a:rPr>
              <a:t>Logr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840" y="1357200"/>
            <a:ext cx="8501040" cy="58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5440" indent="-325440" algn="just">
              <a:lnSpc>
                <a:spcPts val="3362"/>
              </a:lnSpc>
              <a:spcBef>
                <a:spcPts val="788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9900"/>
                </a:solidFill>
                <a:latin typeface="Arial"/>
                <a:ea typeface="Arial"/>
              </a:rPr>
              <a:t>De 2006 a 2008: Disminución de la mortalidad infantil (10.7%); de la mortalidad por diarreas (37.2%) e infecciones respiratorias agudas (4.6%) en los menores de cinco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just">
              <a:lnSpc>
                <a:spcPts val="3362"/>
              </a:lnSpc>
              <a:spcBef>
                <a:spcPts val="788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Mantenimiento de la erradicación de la poliomielitis (1990) y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liminación de la difteria (19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just">
              <a:lnSpc>
                <a:spcPts val="3362"/>
              </a:lnSpc>
              <a:spcBef>
                <a:spcPts val="788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9900"/>
                </a:solidFill>
                <a:latin typeface="Arial"/>
                <a:ea typeface="Arial"/>
              </a:rPr>
              <a:t>Control del sarampión, tos ferina, tétanos neonatal y no neonatal y de las infecciones invasivas por </a:t>
            </a:r>
            <a:r>
              <a:rPr b="0" lang="es-MX" sz="24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H</a:t>
            </a:r>
            <a:r>
              <a:rPr b="0" i="1" lang="es-MX" sz="24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aemophilus influenzae b</a:t>
            </a:r>
            <a:r>
              <a:rPr b="0" lang="es-MX" sz="2400" spc="-1" strike="noStrike">
                <a:solidFill>
                  <a:srgbClr val="009900"/>
                </a:solidFill>
                <a:latin typeface="Arial"/>
                <a:ea typeface="Arial"/>
              </a:rPr>
              <a:t>, desde hace 4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just">
              <a:lnSpc>
                <a:spcPts val="3362"/>
              </a:lnSpc>
              <a:spcBef>
                <a:spcPts val="788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Mantenimiento de la incidencia de casos de VIH Sida en adolescentes por abajo del 2% en los últimos tres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just">
              <a:lnSpc>
                <a:spcPts val="3362"/>
              </a:lnSpc>
              <a:spcBef>
                <a:spcPts val="788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9900"/>
                </a:solidFill>
                <a:latin typeface="Arial"/>
                <a:ea typeface="Arial"/>
              </a:rPr>
              <a:t>Decremento de 30% en la mortalidad por tubercu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ts val="3362"/>
              </a:lnSpc>
              <a:spcBef>
                <a:spcPts val="499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2920" y="550800"/>
            <a:ext cx="44625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6600"/>
                </a:solidFill>
                <a:latin typeface="Arial"/>
                <a:ea typeface="Arial"/>
              </a:rPr>
              <a:t>Logr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7120" y="1785960"/>
            <a:ext cx="85010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5440" indent="-325440" algn="just">
              <a:lnSpc>
                <a:spcPts val="3600"/>
              </a:lnSpc>
              <a:spcBef>
                <a:spcPts val="788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9900"/>
                </a:solidFill>
                <a:latin typeface="Arial"/>
                <a:ea typeface="Arial"/>
              </a:rPr>
              <a:t>Decremento anual de 5% en la mortalidad por cáncer cérvico uterino  en los últimos cinco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just">
              <a:lnSpc>
                <a:spcPts val="3600"/>
              </a:lnSpc>
              <a:spcBef>
                <a:spcPts val="788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Disminución de 2.5% en la mortalidad por cáncer de mama en el último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just">
              <a:lnSpc>
                <a:spcPts val="3600"/>
              </a:lnSpc>
              <a:spcBef>
                <a:spcPts val="788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9900"/>
                </a:solidFill>
                <a:latin typeface="Arial"/>
                <a:ea typeface="Arial"/>
              </a:rPr>
              <a:t>Decremento en casos nuevos de: diabetes mellitus, (10.8%); enfermedad hipertensiva, (12.7%) y enfermedad isquémica del corazón (30.3%); en los últimos 4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just">
              <a:lnSpc>
                <a:spcPts val="3600"/>
              </a:lnSpc>
              <a:spcBef>
                <a:spcPts val="788"/>
              </a:spcBef>
              <a:spcAft>
                <a:spcPts val="286"/>
              </a:spcAft>
              <a:buClr>
                <a:srgbClr val="008000"/>
              </a:buClr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ontribución al envejecimiento activo y saludable de 5.4 millones de adultos may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27000" y="0"/>
            <a:ext cx="9171000" cy="10159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08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Diagnóstico situac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944640"/>
            <a:ext cx="9144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640" bIns="46800" anchor="t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800" spc="-1" strike="noStrike">
                <a:solidFill>
                  <a:srgbClr val="339933"/>
                </a:solidFill>
                <a:latin typeface="Arial"/>
                <a:ea typeface="Arial Unicode MS"/>
              </a:rPr>
              <a:t>Niños &lt; de 10 años</a:t>
            </a:r>
            <a:r>
              <a:rPr b="1" lang="es-MX" sz="28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  <a:ea typeface="Arial Unicode MS"/>
              </a:rPr>
              <a:t>y Adolescentes de 10 a 19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449360"/>
          <a:ext cx="914400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9360"/>
                    <a:ext cx="914400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95280" y="1844640"/>
            <a:ext cx="431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7280" y="6053040"/>
            <a:ext cx="3529080" cy="678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000" spc="-1" strike="noStrike">
                <a:solidFill>
                  <a:srgbClr val="009900"/>
                </a:solidFill>
                <a:latin typeface="Arial"/>
                <a:ea typeface="Arial Unicode MS"/>
              </a:rPr>
              <a:t>El 79% de muertes en los niños son preven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2360" y="6053040"/>
            <a:ext cx="4859280" cy="678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Arial"/>
                <a:ea typeface="Arial Unicode MS"/>
              </a:rPr>
              <a:t>Alrededor del 60% de niños y adolescentes ven TV &gt; de 2 horas / d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9640" y="5624640"/>
            <a:ext cx="4610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 algn="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Fuente: ENCOPREVENIM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27000" y="0"/>
            <a:ext cx="9171000" cy="10238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agnóstico situacional 200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8092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Mujeres y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292929"/>
                </a:solidFill>
                <a:latin typeface="Arial"/>
              </a:rPr>
              <a:t>Hombres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20 a 59 años y                                Adultos Mayores de 59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8000" y="1824120"/>
            <a:ext cx="8964720" cy="3456000"/>
            <a:chOff x="108000" y="1824120"/>
            <a:chExt cx="8964720" cy="3456000"/>
          </a:xfrm>
        </p:grpSpPr>
        <p:graphicFrame>
          <p:nvGraphicFramePr>
            <p:cNvPr id="190" name=""/>
            <p:cNvGraphicFramePr/>
            <p:nvPr/>
          </p:nvGraphicFramePr>
          <p:xfrm>
            <a:off x="108000" y="1824120"/>
            <a:ext cx="8964720" cy="345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000" y="1824120"/>
                      <a:ext cx="8964720" cy="34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108000" y="1824120"/>
              <a:ext cx="896472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0" y="54198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86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86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9900"/>
                </a:solidFill>
                <a:latin typeface="Arial"/>
              </a:rPr>
              <a:t>Cada 10 minutos ocurre una muerte asociada a tabaquismo. Las adicciones se relacionan en un 37.0% a muertes por causas violent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315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ff0000"/>
                </a:solidFill>
                <a:latin typeface="Arial"/>
              </a:rPr>
              <a:t>A diario ocurren, en promedio 78 muertes asociadas a sobrepeso y obesid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7:11:02Z</dcterms:created>
  <dc:creator>ledenika.mendez</dc:creator>
  <dc:description/>
  <dc:language>en-US</dc:language>
  <cp:lastModifiedBy>Administrador</cp:lastModifiedBy>
  <dcterms:modified xsi:type="dcterms:W3CDTF">2011-01-31T16:59:12Z</dcterms:modified>
  <cp:revision>361</cp:revision>
  <dc:subject/>
  <dc:title>Diapositiva 1</dc:title>
</cp:coreProperties>
</file>